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png" ContentType="image/png"/>
  <Override PartName="/ppt/media/image42.wmf" ContentType="image/x-wmf"/>
  <Override PartName="/ppt/media/image41.wmf" ContentType="image/x-wmf"/>
  <Override PartName="/ppt/media/image40.wmf" ContentType="image/x-wmf"/>
  <Override PartName="/ppt/media/image18.png" ContentType="image/png"/>
  <Override PartName="/ppt/media/image34.wmf" ContentType="image/x-wmf"/>
  <Override PartName="/ppt/media/image33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15.png" ContentType="image/png"/>
  <Override PartName="/ppt/media/image13.wmf" ContentType="image/x-wmf"/>
  <Override PartName="/ppt/media/image1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.png" ContentType="image/png"/>
  <Override PartName="/ppt/media/image15.png" ContentType="image/png"/>
  <Override PartName="/ppt/media/image36.wmf" ContentType="image/x-wmf"/>
  <Override PartName="/ppt/media/image6.wmf" ContentType="image/x-wmf"/>
  <Override PartName="/ppt/media/image83.wmf" ContentType="image/x-wmf"/>
  <Override PartName="/ppt/media/image112.png" ContentType="image/png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114.png" ContentType="image/png"/>
  <Override PartName="/ppt/media/image4.jpeg" ContentType="image/jpeg"/>
  <Override PartName="/ppt/media/image105.wmf" ContentType="image/x-wmf"/>
  <Override PartName="/ppt/media/image35.wmf" ContentType="image/x-wmf"/>
  <Override PartName="/ppt/media/image78.png" ContentType="image/png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70.wmf" ContentType="image/x-wmf"/>
  <Override PartName="/ppt/media/image76.wmf" ContentType="image/x-wmf"/>
  <Override PartName="/ppt/media/image77.wmf" ContentType="image/x-wmf"/>
  <Override PartName="/ppt/media/image80.wmf" ContentType="image/x-wmf"/>
  <Override PartName="/ppt/media/image87.wmf" ContentType="image/x-wmf"/>
  <Override PartName="/ppt/media/image73.wmf" ContentType="image/x-wmf"/>
  <Override PartName="/ppt/media/image90.png" ContentType="image/png"/>
  <Override PartName="/ppt/media/image88.wmf" ContentType="image/x-wmf"/>
  <Override PartName="/ppt/media/image75.wmf" ContentType="image/x-wmf"/>
  <Override PartName="/ppt/media/image92.png" ContentType="image/png"/>
  <Override PartName="/ppt/media/image95.wmf" ContentType="image/x-wmf"/>
  <Override PartName="/ppt/media/image102.wmf" ContentType="image/x-wmf"/>
  <Override PartName="/ppt/media/image96.wmf" ContentType="image/x-wmf"/>
  <Override PartName="/ppt/media/image103.wmf" ContentType="image/x-wmf"/>
  <Override PartName="/ppt/media/image113.wmf" ContentType="image/x-wmf"/>
  <Override PartName="/ppt/media/image27.wmf" ContentType="image/x-wmf"/>
  <Override PartName="/ppt/media/image79.wmf" ContentType="image/x-wmf"/>
  <Override PartName="/ppt/media/image101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22.png" ContentType="image/png"/>
  <Override PartName="/ppt/media/image71.png" ContentType="image/png"/>
  <Override PartName="/ppt/media/image32.wmf" ContentType="image/x-wmf"/>
  <Override PartName="/ppt/media/image111.wmf" ContentType="image/x-wmf"/>
  <Override PartName="/ppt/media/image25.wmf" ContentType="image/x-wmf"/>
  <Override PartName="/ppt/media/image97.wmf" ContentType="image/x-wmf"/>
  <Override PartName="/ppt/media/image104.wmf" ContentType="image/x-wmf"/>
  <Override PartName="/ppt/media/image110.wmf" ContentType="image/x-wmf"/>
  <Override PartName="/ppt/media/image107.png" ContentType="image/png"/>
  <Override PartName="/ppt/media/image67.png" ContentType="image/png"/>
  <Override PartName="/ppt/media/image24.wmf" ContentType="image/x-wmf"/>
  <Override PartName="/ppt/media/image74.wmf" ContentType="image/x-wmf"/>
  <Override PartName="/ppt/media/image109.png" ContentType="image/png"/>
  <Override PartName="/ppt/media/image72.wmf" ContentType="image/x-wmf"/>
  <Override PartName="/ppt/media/image98.wmf" ContentType="image/x-wmf"/>
  <Override PartName="/ppt/media/image61.wmf" ContentType="image/x-wmf"/>
  <Override PartName="/ppt/media/image68.wmf" ContentType="image/x-wmf"/>
  <Override PartName="/ppt/media/image31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0.png" ContentType="image/png"/>
  <Override PartName="/ppt/media/image58.wmf" ContentType="image/x-wmf"/>
  <Override PartName="/ppt/media/image26.wmf" ContentType="image/x-wmf"/>
  <Override PartName="/ppt/media/image69.png" ContentType="image/png"/>
  <Override PartName="/ppt/media/image91.wmf" ContentType="image/x-wmf"/>
  <Override PartName="/ppt/media/image23.wmf" ContentType="image/x-wmf"/>
  <Override PartName="/ppt/media/image21.png" ContentType="image/png"/>
  <Override PartName="/ppt/media/image89.wmf" ContentType="image/x-wmf"/>
  <Override PartName="/ppt/media/image20.wmf" ContentType="image/x-wmf"/>
  <Override PartName="/ppt/media/image57.wmf" ContentType="image/x-wmf"/>
  <Override PartName="/ppt/media/image16.wmf" ContentType="image/x-wmf"/>
  <Override PartName="/ppt/media/image59.png" ContentType="image/png"/>
  <Override PartName="/ppt/media/image81.wmf" ContentType="image/x-wmf"/>
  <Override PartName="/ppt/media/image55.wmf" ContentType="image/x-wmf"/>
  <Override PartName="/ppt/media/image2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D6A-260D-489D-AF4A-22D0927A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6080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54F-7D22-4976-B3DF-1FD72091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536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536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3E1-4D53-4DAA-8483-77912CDC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08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060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08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060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BFB-2BA0-4EE4-9A81-80FDADAC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103A-ECBA-41F2-BB7F-1CE20CA1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177F-0DBD-430E-8165-00216FE7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3FD1-0E81-4FF3-8144-67DD6403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4FB9-7F01-4125-BE3E-9B9BBFD6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754D-E413-4B66-9F06-97E00C06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09B0-0780-4E66-8D6C-846996B5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536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6511-84CC-4AF0-A83A-08DC5F6E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46C-F3B8-4775-9332-194E8F03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536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3536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2DE0-3671-4948-BA6D-D1988972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536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6080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2402-79BE-448D-AF3B-9E5189AA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6080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8ED0-396D-48AB-B3B8-E16FF59A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536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3536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AC9D-DAB1-408F-A5C4-376A2ABA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408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70600" y="175212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408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70600" y="4060800"/>
            <a:ext cx="262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80AD-BB8E-44CA-BBDE-28D7723F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1EC-9AD6-40A5-9B7A-32623AB8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9A88-9F2B-4CC4-A3B8-DC093D2E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6299-7024-4ED5-8530-853E32B6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0188-DA46-4597-9712-6986C8FE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536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480-5F97-4FA9-BBBC-1908488E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97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536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5360" y="406080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233-91BC-4A0D-8EE4-B0644F5C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5360" y="1752120"/>
            <a:ext cx="39787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60800"/>
            <a:ext cx="8153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485-F738-4F45-AF23-4B2695D4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72800" cy="6806880"/>
            <a:chOff x="0" y="0"/>
            <a:chExt cx="9172800" cy="68068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05920" cy="6248520"/>
            </a:xfrm>
            <a:prstGeom prst="rect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238880" y="380880"/>
              <a:ext cx="1524240" cy="6172200"/>
            </a:xfrm>
            <a:prstGeom prst="rect">
              <a:avLst/>
            </a:prstGeom>
            <a:gradFill rotWithShape="0">
              <a:gsLst>
                <a:gs pos="0">
                  <a:srgbClr val="00172f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565800">
              <a:off x="7791120" y="4419720"/>
              <a:ext cx="1276200" cy="1390680"/>
            </a:xfrm>
            <a:custGeom>
              <a:avLst/>
              <a:gdLst/>
              <a:ahLst/>
              <a:rect l="l" t="t" r="r" b="b"/>
              <a:pathLst>
                <a:path w="2299" h="2508">
                  <a:moveTo>
                    <a:pt x="1392" y="2304"/>
                  </a:moveTo>
                  <a:cubicBezTo>
                    <a:pt x="2299" y="1485"/>
                    <a:pt x="1821" y="53"/>
                    <a:pt x="1620" y="0"/>
                  </a:cubicBezTo>
                  <a:cubicBezTo>
                    <a:pt x="259" y="879"/>
                    <a:pt x="552" y="2016"/>
                    <a:pt x="566" y="2065"/>
                  </a:cubicBezTo>
                  <a:lnTo>
                    <a:pt x="318" y="1302"/>
                  </a:lnTo>
                  <a:lnTo>
                    <a:pt x="444" y="2130"/>
                  </a:lnTo>
                  <a:lnTo>
                    <a:pt x="132" y="1386"/>
                  </a:lnTo>
                  <a:lnTo>
                    <a:pt x="348" y="2178"/>
                  </a:lnTo>
                  <a:lnTo>
                    <a:pt x="0" y="1584"/>
                  </a:lnTo>
                  <a:lnTo>
                    <a:pt x="252" y="2280"/>
                  </a:lnTo>
                  <a:cubicBezTo>
                    <a:pt x="252" y="2280"/>
                    <a:pt x="384" y="2166"/>
                    <a:pt x="624" y="2130"/>
                  </a:cubicBezTo>
                  <a:cubicBezTo>
                    <a:pt x="876" y="2130"/>
                    <a:pt x="972" y="2172"/>
                    <a:pt x="1093" y="2211"/>
                  </a:cubicBezTo>
                  <a:cubicBezTo>
                    <a:pt x="1136" y="1860"/>
                    <a:pt x="1180" y="1509"/>
                    <a:pt x="1180" y="1509"/>
                  </a:cubicBezTo>
                  <a:lnTo>
                    <a:pt x="873" y="2094"/>
                  </a:lnTo>
                  <a:cubicBezTo>
                    <a:pt x="907" y="1992"/>
                    <a:pt x="924" y="1374"/>
                    <a:pt x="1385" y="894"/>
                  </a:cubicBezTo>
                  <a:cubicBezTo>
                    <a:pt x="1444" y="1523"/>
                    <a:pt x="1126" y="2001"/>
                    <a:pt x="1104" y="2220"/>
                  </a:cubicBezTo>
                  <a:lnTo>
                    <a:pt x="1242" y="2256"/>
                  </a:lnTo>
                  <a:cubicBezTo>
                    <a:pt x="1303" y="1986"/>
                    <a:pt x="1698" y="1266"/>
                    <a:pt x="1473" y="601"/>
                  </a:cubicBezTo>
                  <a:cubicBezTo>
                    <a:pt x="918" y="810"/>
                    <a:pt x="816" y="1902"/>
                    <a:pt x="727" y="2065"/>
                  </a:cubicBezTo>
                  <a:cubicBezTo>
                    <a:pt x="732" y="1866"/>
                    <a:pt x="507" y="1070"/>
                    <a:pt x="1532" y="382"/>
                  </a:cubicBezTo>
                  <a:cubicBezTo>
                    <a:pt x="1868" y="1216"/>
                    <a:pt x="1523" y="1843"/>
                    <a:pt x="1260" y="2268"/>
                  </a:cubicBezTo>
                  <a:lnTo>
                    <a:pt x="1428" y="2364"/>
                  </a:lnTo>
                  <a:lnTo>
                    <a:pt x="1602" y="2508"/>
                  </a:lnTo>
                  <a:lnTo>
                    <a:pt x="2154" y="2088"/>
                  </a:lnTo>
                  <a:lnTo>
                    <a:pt x="1590" y="2412"/>
                  </a:lnTo>
                  <a:lnTo>
                    <a:pt x="2142" y="1836"/>
                  </a:lnTo>
                  <a:lnTo>
                    <a:pt x="1506" y="2346"/>
                  </a:lnTo>
                  <a:lnTo>
                    <a:pt x="2052" y="1668"/>
                  </a:lnTo>
                  <a:lnTo>
                    <a:pt x="1392" y="2304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99cc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18773400">
              <a:off x="7150320" y="5517720"/>
              <a:ext cx="1006200" cy="1095480"/>
            </a:xfrm>
            <a:custGeom>
              <a:avLst/>
              <a:gdLst/>
              <a:ahLst/>
              <a:rect l="l" t="t" r="r" b="b"/>
              <a:pathLst>
                <a:path w="2299" h="2508">
                  <a:moveTo>
                    <a:pt x="1392" y="2304"/>
                  </a:moveTo>
                  <a:cubicBezTo>
                    <a:pt x="2299" y="1485"/>
                    <a:pt x="1821" y="53"/>
                    <a:pt x="1620" y="0"/>
                  </a:cubicBezTo>
                  <a:cubicBezTo>
                    <a:pt x="259" y="879"/>
                    <a:pt x="552" y="2016"/>
                    <a:pt x="566" y="2065"/>
                  </a:cubicBezTo>
                  <a:lnTo>
                    <a:pt x="318" y="1302"/>
                  </a:lnTo>
                  <a:lnTo>
                    <a:pt x="444" y="2130"/>
                  </a:lnTo>
                  <a:lnTo>
                    <a:pt x="132" y="1386"/>
                  </a:lnTo>
                  <a:lnTo>
                    <a:pt x="348" y="2178"/>
                  </a:lnTo>
                  <a:lnTo>
                    <a:pt x="0" y="1584"/>
                  </a:lnTo>
                  <a:lnTo>
                    <a:pt x="252" y="2280"/>
                  </a:lnTo>
                  <a:cubicBezTo>
                    <a:pt x="252" y="2280"/>
                    <a:pt x="384" y="2166"/>
                    <a:pt x="624" y="2130"/>
                  </a:cubicBezTo>
                  <a:cubicBezTo>
                    <a:pt x="876" y="2130"/>
                    <a:pt x="972" y="2172"/>
                    <a:pt x="1093" y="2211"/>
                  </a:cubicBezTo>
                  <a:cubicBezTo>
                    <a:pt x="1136" y="1860"/>
                    <a:pt x="1180" y="1509"/>
                    <a:pt x="1180" y="1509"/>
                  </a:cubicBezTo>
                  <a:lnTo>
                    <a:pt x="873" y="2094"/>
                  </a:lnTo>
                  <a:cubicBezTo>
                    <a:pt x="907" y="1992"/>
                    <a:pt x="924" y="1374"/>
                    <a:pt x="1385" y="894"/>
                  </a:cubicBezTo>
                  <a:cubicBezTo>
                    <a:pt x="1444" y="1523"/>
                    <a:pt x="1126" y="2001"/>
                    <a:pt x="1104" y="2220"/>
                  </a:cubicBezTo>
                  <a:lnTo>
                    <a:pt x="1242" y="2256"/>
                  </a:lnTo>
                  <a:cubicBezTo>
                    <a:pt x="1303" y="1986"/>
                    <a:pt x="1698" y="1266"/>
                    <a:pt x="1473" y="601"/>
                  </a:cubicBezTo>
                  <a:cubicBezTo>
                    <a:pt x="918" y="810"/>
                    <a:pt x="816" y="1902"/>
                    <a:pt x="727" y="2065"/>
                  </a:cubicBezTo>
                  <a:cubicBezTo>
                    <a:pt x="732" y="1866"/>
                    <a:pt x="507" y="1070"/>
                    <a:pt x="1532" y="382"/>
                  </a:cubicBezTo>
                  <a:cubicBezTo>
                    <a:pt x="1868" y="1216"/>
                    <a:pt x="1523" y="1843"/>
                    <a:pt x="1260" y="2268"/>
                  </a:cubicBezTo>
                  <a:lnTo>
                    <a:pt x="1428" y="2364"/>
                  </a:lnTo>
                  <a:lnTo>
                    <a:pt x="1602" y="2508"/>
                  </a:lnTo>
                  <a:lnTo>
                    <a:pt x="2154" y="2088"/>
                  </a:lnTo>
                  <a:lnTo>
                    <a:pt x="1590" y="2412"/>
                  </a:lnTo>
                  <a:lnTo>
                    <a:pt x="2142" y="1836"/>
                  </a:lnTo>
                  <a:lnTo>
                    <a:pt x="1506" y="2346"/>
                  </a:lnTo>
                  <a:lnTo>
                    <a:pt x="2052" y="1668"/>
                  </a:lnTo>
                  <a:lnTo>
                    <a:pt x="1392" y="2304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99cc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7033-7A64-4228-AF83-3C4BAD276DED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266040" cy="6858000"/>
            <a:chOff x="0" y="0"/>
            <a:chExt cx="9266040" cy="68580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8305920" cy="6248520"/>
            </a:xfrm>
            <a:prstGeom prst="rect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48520" y="3581280"/>
              <a:ext cx="2895480" cy="3276720"/>
            </a:xfrm>
            <a:prstGeom prst="rect">
              <a:avLst/>
            </a:prstGeom>
            <a:gradFill rotWithShape="0">
              <a:gsLst>
                <a:gs pos="0">
                  <a:srgbClr val="00172f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565800">
              <a:off x="7543800" y="3809520"/>
              <a:ext cx="1600200" cy="1619280"/>
            </a:xfrm>
            <a:custGeom>
              <a:avLst/>
              <a:gdLst/>
              <a:ahLst/>
              <a:rect l="l" t="t" r="r" b="b"/>
              <a:pathLst>
                <a:path w="2299" h="2508">
                  <a:moveTo>
                    <a:pt x="1392" y="2304"/>
                  </a:moveTo>
                  <a:cubicBezTo>
                    <a:pt x="2299" y="1485"/>
                    <a:pt x="1821" y="53"/>
                    <a:pt x="1620" y="0"/>
                  </a:cubicBezTo>
                  <a:cubicBezTo>
                    <a:pt x="259" y="879"/>
                    <a:pt x="552" y="2016"/>
                    <a:pt x="566" y="2065"/>
                  </a:cubicBezTo>
                  <a:lnTo>
                    <a:pt x="318" y="1302"/>
                  </a:lnTo>
                  <a:lnTo>
                    <a:pt x="444" y="2130"/>
                  </a:lnTo>
                  <a:lnTo>
                    <a:pt x="132" y="1386"/>
                  </a:lnTo>
                  <a:lnTo>
                    <a:pt x="348" y="2178"/>
                  </a:lnTo>
                  <a:lnTo>
                    <a:pt x="0" y="1584"/>
                  </a:lnTo>
                  <a:lnTo>
                    <a:pt x="252" y="2280"/>
                  </a:lnTo>
                  <a:cubicBezTo>
                    <a:pt x="252" y="2280"/>
                    <a:pt x="384" y="2166"/>
                    <a:pt x="624" y="2130"/>
                  </a:cubicBezTo>
                  <a:cubicBezTo>
                    <a:pt x="876" y="2130"/>
                    <a:pt x="972" y="2172"/>
                    <a:pt x="1093" y="2211"/>
                  </a:cubicBezTo>
                  <a:cubicBezTo>
                    <a:pt x="1136" y="1860"/>
                    <a:pt x="1180" y="1509"/>
                    <a:pt x="1180" y="1509"/>
                  </a:cubicBezTo>
                  <a:lnTo>
                    <a:pt x="873" y="2094"/>
                  </a:lnTo>
                  <a:cubicBezTo>
                    <a:pt x="907" y="1992"/>
                    <a:pt x="924" y="1374"/>
                    <a:pt x="1385" y="894"/>
                  </a:cubicBezTo>
                  <a:cubicBezTo>
                    <a:pt x="1444" y="1523"/>
                    <a:pt x="1126" y="2001"/>
                    <a:pt x="1104" y="2220"/>
                  </a:cubicBezTo>
                  <a:lnTo>
                    <a:pt x="1242" y="2256"/>
                  </a:lnTo>
                  <a:cubicBezTo>
                    <a:pt x="1303" y="1986"/>
                    <a:pt x="1698" y="1266"/>
                    <a:pt x="1473" y="601"/>
                  </a:cubicBezTo>
                  <a:cubicBezTo>
                    <a:pt x="918" y="810"/>
                    <a:pt x="816" y="1902"/>
                    <a:pt x="727" y="2065"/>
                  </a:cubicBezTo>
                  <a:cubicBezTo>
                    <a:pt x="732" y="1866"/>
                    <a:pt x="507" y="1070"/>
                    <a:pt x="1532" y="382"/>
                  </a:cubicBezTo>
                  <a:cubicBezTo>
                    <a:pt x="1868" y="1216"/>
                    <a:pt x="1523" y="1843"/>
                    <a:pt x="1260" y="2268"/>
                  </a:cubicBezTo>
                  <a:lnTo>
                    <a:pt x="1428" y="2364"/>
                  </a:lnTo>
                  <a:lnTo>
                    <a:pt x="1602" y="2508"/>
                  </a:lnTo>
                  <a:lnTo>
                    <a:pt x="2154" y="2088"/>
                  </a:lnTo>
                  <a:lnTo>
                    <a:pt x="1590" y="2412"/>
                  </a:lnTo>
                  <a:lnTo>
                    <a:pt x="2142" y="1836"/>
                  </a:lnTo>
                  <a:lnTo>
                    <a:pt x="1506" y="2346"/>
                  </a:lnTo>
                  <a:lnTo>
                    <a:pt x="2052" y="1668"/>
                  </a:lnTo>
                  <a:lnTo>
                    <a:pt x="1392" y="2304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99cc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773400">
              <a:off x="7054920" y="5289120"/>
              <a:ext cx="1006200" cy="1095480"/>
            </a:xfrm>
            <a:custGeom>
              <a:avLst/>
              <a:gdLst/>
              <a:ahLst/>
              <a:rect l="l" t="t" r="r" b="b"/>
              <a:pathLst>
                <a:path w="2299" h="2508">
                  <a:moveTo>
                    <a:pt x="1392" y="2304"/>
                  </a:moveTo>
                  <a:cubicBezTo>
                    <a:pt x="2299" y="1485"/>
                    <a:pt x="1821" y="53"/>
                    <a:pt x="1620" y="0"/>
                  </a:cubicBezTo>
                  <a:cubicBezTo>
                    <a:pt x="259" y="879"/>
                    <a:pt x="552" y="2016"/>
                    <a:pt x="566" y="2065"/>
                  </a:cubicBezTo>
                  <a:lnTo>
                    <a:pt x="318" y="1302"/>
                  </a:lnTo>
                  <a:lnTo>
                    <a:pt x="444" y="2130"/>
                  </a:lnTo>
                  <a:lnTo>
                    <a:pt x="132" y="1386"/>
                  </a:lnTo>
                  <a:lnTo>
                    <a:pt x="348" y="2178"/>
                  </a:lnTo>
                  <a:lnTo>
                    <a:pt x="0" y="1584"/>
                  </a:lnTo>
                  <a:lnTo>
                    <a:pt x="252" y="2280"/>
                  </a:lnTo>
                  <a:cubicBezTo>
                    <a:pt x="252" y="2280"/>
                    <a:pt x="384" y="2166"/>
                    <a:pt x="624" y="2130"/>
                  </a:cubicBezTo>
                  <a:cubicBezTo>
                    <a:pt x="876" y="2130"/>
                    <a:pt x="972" y="2172"/>
                    <a:pt x="1093" y="2211"/>
                  </a:cubicBezTo>
                  <a:cubicBezTo>
                    <a:pt x="1136" y="1860"/>
                    <a:pt x="1180" y="1509"/>
                    <a:pt x="1180" y="1509"/>
                  </a:cubicBezTo>
                  <a:lnTo>
                    <a:pt x="873" y="2094"/>
                  </a:lnTo>
                  <a:cubicBezTo>
                    <a:pt x="907" y="1992"/>
                    <a:pt x="924" y="1374"/>
                    <a:pt x="1385" y="894"/>
                  </a:cubicBezTo>
                  <a:cubicBezTo>
                    <a:pt x="1444" y="1523"/>
                    <a:pt x="1126" y="2001"/>
                    <a:pt x="1104" y="2220"/>
                  </a:cubicBezTo>
                  <a:lnTo>
                    <a:pt x="1242" y="2256"/>
                  </a:lnTo>
                  <a:cubicBezTo>
                    <a:pt x="1303" y="1986"/>
                    <a:pt x="1698" y="1266"/>
                    <a:pt x="1473" y="601"/>
                  </a:cubicBezTo>
                  <a:cubicBezTo>
                    <a:pt x="918" y="810"/>
                    <a:pt x="816" y="1902"/>
                    <a:pt x="727" y="2065"/>
                  </a:cubicBezTo>
                  <a:cubicBezTo>
                    <a:pt x="732" y="1866"/>
                    <a:pt x="507" y="1070"/>
                    <a:pt x="1532" y="382"/>
                  </a:cubicBezTo>
                  <a:cubicBezTo>
                    <a:pt x="1868" y="1216"/>
                    <a:pt x="1523" y="1843"/>
                    <a:pt x="1260" y="2268"/>
                  </a:cubicBezTo>
                  <a:lnTo>
                    <a:pt x="1428" y="2364"/>
                  </a:lnTo>
                  <a:lnTo>
                    <a:pt x="1602" y="2508"/>
                  </a:lnTo>
                  <a:lnTo>
                    <a:pt x="2154" y="2088"/>
                  </a:lnTo>
                  <a:lnTo>
                    <a:pt x="1590" y="2412"/>
                  </a:lnTo>
                  <a:lnTo>
                    <a:pt x="2142" y="1836"/>
                  </a:lnTo>
                  <a:lnTo>
                    <a:pt x="1506" y="2346"/>
                  </a:lnTo>
                  <a:lnTo>
                    <a:pt x="2052" y="1668"/>
                  </a:lnTo>
                  <a:lnTo>
                    <a:pt x="1392" y="2304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99cc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84F6-B2AB-4863-B506-0BBB32211510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8.wmf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8.wmf"/><Relationship Id="rId2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arxiv.org/abs/0810.4995v1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image" Target="../media/image60.png"/><Relationship Id="rId8" Type="http://schemas.openxmlformats.org/officeDocument/2006/relationships/image" Target="../media/image60.png"/><Relationship Id="rId9" Type="http://schemas.openxmlformats.org/officeDocument/2006/relationships/image" Target="../media/image60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61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62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63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64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65.wmf"/><Relationship Id="rId20" Type="http://schemas.openxmlformats.org/officeDocument/2006/relationships/image" Target="../media/image66.wmf"/><Relationship Id="rId2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6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8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8.wmf"/><Relationship Id="rId2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9.wmf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image" Target="../media/image101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5.wmf"/><Relationship Id="rId6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6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wmf"/><Relationship Id="rId3" Type="http://schemas.openxmlformats.org/officeDocument/2006/relationships/image" Target="../media/image111.wmf"/><Relationship Id="rId4" Type="http://schemas.openxmlformats.org/officeDocument/2006/relationships/image" Target="../media/image112.png"/><Relationship Id="rId5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arxiv.org/abs/0905.3152v3" TargetMode="External"/><Relationship Id="rId2" Type="http://schemas.openxmlformats.org/officeDocument/2006/relationships/image" Target="../media/image115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4968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Positron excess?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653000"/>
            <a:ext cx="7993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ja-JP" sz="20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ysics Department, Tohoku Univers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3500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omic Sans MS"/>
                <a:ea typeface="HG行書体"/>
              </a:rPr>
              <a:t>（郡　和範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3429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HGP創英角ﾎﾟｯﾌﾟ体"/>
              </a:rPr>
              <a:t>Kazunori Koh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1773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omic Sans MS"/>
              </a:rPr>
              <a:t>－　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rom viewpoints</a:t>
            </a:r>
            <a:r>
              <a:rPr b="0" lang="ja-JP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f both particle physics and astrophysics </a:t>
            </a:r>
            <a:r>
              <a:rPr b="0" lang="ja-JP" sz="1800" spc="-1" strike="noStrike">
                <a:solidFill>
                  <a:srgbClr val="ffffff"/>
                </a:solidFill>
                <a:latin typeface="Comic Sans MS"/>
              </a:rPr>
              <a:t>－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1484280"/>
            <a:ext cx="42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Comic Sans MS"/>
              </a:rPr>
              <a:t>Hisano, Kawasaki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Comic Sans MS"/>
              </a:rPr>
              <a:t>Kohri, Moroi, Nakayama  (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378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Electron/positron cut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in DM annihi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8000" y="263700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iffusion 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tted to B/C rat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3860640"/>
          <a:ext cx="272268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60640"/>
                    <a:ext cx="27226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3"/>
          <a:srcRect l="0" t="69471" r="42526" b="0"/>
          <a:stretch/>
        </p:blipFill>
        <p:spPr>
          <a:xfrm>
            <a:off x="4572000" y="3573360"/>
            <a:ext cx="4143240" cy="3117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rcRect l="0" t="69300" r="42195" b="0"/>
          <a:stretch/>
        </p:blipFill>
        <p:spPr>
          <a:xfrm>
            <a:off x="4572000" y="260280"/>
            <a:ext cx="41418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Residual annihilation of DM even at around BBN or  CMB epoc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0560" y="3573000"/>
            <a:ext cx="835344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t the PAMELA and ATIC2/Fermi positron and electron signal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789280" y="4581360"/>
          <a:ext cx="322272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9280" y="4581360"/>
                    <a:ext cx="32227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700360" y="1484280"/>
          <a:ext cx="4176720" cy="189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1484280"/>
                    <a:ext cx="417672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5516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O(10</a:t>
            </a:r>
            <a:r>
              <a:rPr b="0" lang="en-US" sz="3200" spc="-1" strike="noStrike" baseline="30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) times larger than canonical valu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27720" y="6161040"/>
          <a:ext cx="404784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7720" y="6161040"/>
                    <a:ext cx="40478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140360" y="2276640"/>
            <a:ext cx="1655640" cy="122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435640" y="3141720"/>
          <a:ext cx="720720" cy="42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5640" y="3141720"/>
                    <a:ext cx="7207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155700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ig-Bang Nucleosynthesis (BBN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ig-Bang Nucleosynthesis (BBN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496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Very strong cosmological tools to study long-lived particles with lifetime of 0.01 sec – 10</a:t>
            </a:r>
            <a:r>
              <a:rPr b="0" lang="en-US" sz="3200" spc="-1" strike="noStrike" baseline="30000">
                <a:solidFill>
                  <a:srgbClr val="ffccff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 s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Theoretical predictions are constrained by observational D, 3He, </a:t>
            </a:r>
            <a:r>
              <a:rPr b="0" lang="en-US" sz="3200" spc="-1" strike="noStrike" baseline="30000">
                <a:solidFill>
                  <a:srgbClr val="ffcc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He,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</a:t>
            </a: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 and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 </a:t>
            </a: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abundances 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with their conservative erro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1712880"/>
          <a:ext cx="2887560" cy="49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12880"/>
                    <a:ext cx="2887560" cy="49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5328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Thermal history of the Univer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55640" y="2060640"/>
            <a:ext cx="287640" cy="4537080"/>
          </a:xfrm>
          <a:prstGeom prst="downArrow">
            <a:avLst>
              <a:gd name="adj1" fmla="val 20444"/>
              <a:gd name="adj2" fmla="val 8982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2060640"/>
            <a:ext cx="5545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nck s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UT phase transitio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oweak phase tran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CD phase tran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utrino decoup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on-positron annihi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tter-radiation equ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oton decoupling (CM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620640"/>
            <a:ext cx="2519640" cy="1152720"/>
          </a:xfrm>
          <a:prstGeom prst="irregularSeal2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44720" y="981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g b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8000" y="6021360"/>
            <a:ext cx="115272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547640" y="5589720"/>
          <a:ext cx="576360" cy="57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5589720"/>
                    <a:ext cx="5763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5614920" y="1989000"/>
            <a:ext cx="144360" cy="863640"/>
          </a:xfrm>
          <a:custGeom>
            <a:avLst/>
            <a:gdLst>
              <a:gd name="textAreaLeft" fmla="*/ 0 w 144360"/>
              <a:gd name="textAreaRight" fmla="*/ 101160 w 144360"/>
              <a:gd name="textAreaTop" fmla="*/ 36000 h 863640"/>
              <a:gd name="textAreaBottom" fmla="*/ 82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59280" y="213372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Inflation and Rehe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62560" y="2637000"/>
            <a:ext cx="144720" cy="863280"/>
          </a:xfrm>
          <a:custGeom>
            <a:avLst/>
            <a:gdLst>
              <a:gd name="textAreaLeft" fmla="*/ 0 w 144720"/>
              <a:gd name="textAreaRight" fmla="*/ 101520 w 144720"/>
              <a:gd name="textAreaTop" fmla="*/ 35640 h 863280"/>
              <a:gd name="textAreaBottom" fmla="*/ 827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7280" y="278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Baryogenesi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35640" y="3933720"/>
            <a:ext cx="144360" cy="863640"/>
          </a:xfrm>
          <a:custGeom>
            <a:avLst/>
            <a:gdLst>
              <a:gd name="textAreaLeft" fmla="*/ 0 w 144360"/>
              <a:gd name="textAreaRight" fmla="*/ 101160 w 144360"/>
              <a:gd name="textAreaTop" fmla="*/ 36000 h 863640"/>
              <a:gd name="textAreaBottom" fmla="*/ 82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1640" y="393372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Big-Bang Nucleosynthesis (BB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24000" y="6426360"/>
          <a:ext cx="129672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6426360"/>
                    <a:ext cx="1296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594036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cf) 1 GeV ~ 10</a:t>
            </a:r>
            <a:r>
              <a:rPr b="0" lang="en-US" sz="2400" spc="-1" strike="noStrike" baseline="30000">
                <a:solidFill>
                  <a:srgbClr val="ffffcc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16720" y="3716280"/>
            <a:ext cx="2232000" cy="151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5229360"/>
            <a:ext cx="3095640" cy="57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24000" y="1989000"/>
            <a:ext cx="446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414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cenario of BB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79280" y="1268280"/>
          <a:ext cx="504036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50403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003640" y="1844640"/>
          <a:ext cx="1411560" cy="7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844640"/>
                    <a:ext cx="14115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219640" y="2637000"/>
          <a:ext cx="720720" cy="42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9640" y="2637000"/>
                    <a:ext cx="72072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692360" y="2133720"/>
            <a:ext cx="215640" cy="718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ed4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3357720"/>
            <a:ext cx="5327640" cy="52056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Weak interaction is in equi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771640" y="4221000"/>
          <a:ext cx="3011760" cy="77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4221000"/>
                    <a:ext cx="3011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987640" y="5373720"/>
          <a:ext cx="2519280" cy="113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7640" y="5373720"/>
                    <a:ext cx="2519280" cy="1133280"/>
                  </a:xfrm>
                  <a:prstGeom prst="rect">
                    <a:avLst/>
                  </a:prstGeom>
                  <a:ln w="25560">
                    <a:solidFill>
                      <a:srgbClr val="ff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6012000" y="6308640"/>
          <a:ext cx="2987640" cy="43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2000" y="6308640"/>
                    <a:ext cx="29876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940360" y="549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cf) 1 MeV ~ 10</a:t>
            </a:r>
            <a:r>
              <a:rPr b="0" lang="en-US" sz="2400" spc="-1" strike="noStrike" baseline="30000">
                <a:solidFill>
                  <a:srgbClr val="ffffcc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250920" y="476280"/>
          <a:ext cx="5689440" cy="7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76280"/>
                    <a:ext cx="568944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826920" y="119700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Feezeout of weak 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184464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 interaction 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bble expansion 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235480" y="1557360"/>
          <a:ext cx="349884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35480" y="1557360"/>
                    <a:ext cx="34988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5651640" y="2276640"/>
          <a:ext cx="2305080" cy="78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2276640"/>
                    <a:ext cx="230508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965320" y="3271680"/>
          <a:ext cx="3649680" cy="105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65320" y="3271680"/>
                    <a:ext cx="36496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55760" y="4653000"/>
          <a:ext cx="3698640" cy="511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5760" y="4653000"/>
                    <a:ext cx="36986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989680" y="4581360"/>
          <a:ext cx="2093760" cy="584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89680" y="4581360"/>
                    <a:ext cx="20937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059280" y="5373720"/>
          <a:ext cx="3168360" cy="1065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59280" y="5373720"/>
                    <a:ext cx="3168360" cy="106524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572000" y="4724280"/>
            <a:ext cx="720720" cy="360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9640" y="620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cf) 1 MeV ~ 10</a:t>
            </a:r>
            <a:r>
              <a:rPr b="0" lang="en-US" sz="2400" spc="-1" strike="noStrike" baseline="30000">
                <a:solidFill>
                  <a:srgbClr val="ffffcc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rcRect l="8739" t="8185" r="10971" b="4095"/>
          <a:stretch/>
        </p:blipFill>
        <p:spPr>
          <a:xfrm>
            <a:off x="684360" y="692280"/>
            <a:ext cx="3313080" cy="30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1332000" y="2637000"/>
          <a:ext cx="1038240" cy="65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637000"/>
                    <a:ext cx="103824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1" name=""/>
          <p:cNvGrpSpPr/>
          <p:nvPr/>
        </p:nvGrpSpPr>
        <p:grpSpPr>
          <a:xfrm>
            <a:off x="2916360" y="1628640"/>
            <a:ext cx="4443120" cy="1271520"/>
            <a:chOff x="2916360" y="1628640"/>
            <a:chExt cx="4443120" cy="1271520"/>
          </a:xfrm>
        </p:grpSpPr>
        <p:graphicFrame>
          <p:nvGraphicFramePr>
            <p:cNvPr id="252" name=""/>
            <p:cNvGraphicFramePr/>
            <p:nvPr/>
          </p:nvGraphicFramePr>
          <p:xfrm>
            <a:off x="5003640" y="1628640"/>
            <a:ext cx="2355840" cy="1271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03640" y="1628640"/>
                      <a:ext cx="2355840" cy="1271520"/>
                    </a:xfrm>
                    <a:prstGeom prst="rect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54" name=""/>
            <p:cNvSpPr/>
            <p:nvPr/>
          </p:nvSpPr>
          <p:spPr>
            <a:xfrm flipH="1" flipV="1">
              <a:off x="2916360" y="1773000"/>
              <a:ext cx="2087280" cy="503280"/>
            </a:xfrm>
            <a:prstGeom prst="line">
              <a:avLst/>
            </a:prstGeom>
            <a:ln w="25560">
              <a:solidFill>
                <a:srgbClr val="ff99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5" name=""/>
          <p:cNvGraphicFramePr/>
          <p:nvPr/>
        </p:nvGraphicFramePr>
        <p:xfrm>
          <a:off x="977760" y="5229360"/>
          <a:ext cx="7177320" cy="111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7760" y="5229360"/>
                    <a:ext cx="7177320" cy="1112760"/>
                  </a:xfrm>
                  <a:prstGeom prst="rect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250920" y="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He4 mass fra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780000" y="3933720"/>
            <a:ext cx="1439280" cy="1079280"/>
            <a:chOff x="3780000" y="3933720"/>
            <a:chExt cx="1439280" cy="1079280"/>
          </a:xfrm>
        </p:grpSpPr>
        <p:sp>
          <p:nvSpPr>
            <p:cNvPr id="259" name=""/>
            <p:cNvSpPr/>
            <p:nvPr/>
          </p:nvSpPr>
          <p:spPr>
            <a:xfrm>
              <a:off x="3910320" y="3933720"/>
              <a:ext cx="654480" cy="59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65160" y="4053600"/>
              <a:ext cx="654120" cy="5994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72400" y="4413600"/>
              <a:ext cx="654120" cy="59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80000" y="4413600"/>
              <a:ext cx="654120" cy="5994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3" name=""/>
          <p:cNvGraphicFramePr/>
          <p:nvPr/>
        </p:nvGraphicFramePr>
        <p:xfrm>
          <a:off x="2627280" y="4221000"/>
          <a:ext cx="663480" cy="462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27280" y="4221000"/>
                    <a:ext cx="66348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3924360" y="39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56000" y="4508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51280" y="4508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14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940360" y="4221000"/>
          <a:ext cx="1944720" cy="586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4221000"/>
                    <a:ext cx="194472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179280" y="404640"/>
          <a:ext cx="4732560" cy="5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04640"/>
                    <a:ext cx="473256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771640" y="1125360"/>
          <a:ext cx="273528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125360"/>
                    <a:ext cx="273528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012000" y="1268280"/>
          <a:ext cx="1944720" cy="33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268280"/>
                    <a:ext cx="19447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050920" y="2492280"/>
          <a:ext cx="520380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2492280"/>
                    <a:ext cx="52038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50920" y="1916280"/>
          <a:ext cx="4392360" cy="49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1916280"/>
                    <a:ext cx="439236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2268360" y="3068640"/>
          <a:ext cx="4803840" cy="103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68360" y="3068640"/>
                    <a:ext cx="4803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5219640" y="4076640"/>
          <a:ext cx="3745080" cy="303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19640" y="4076640"/>
                    <a:ext cx="374508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539640" y="4437000"/>
            <a:ext cx="76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re is no stable nuclei for A=5,8. Mass 7 nuclei are produced a litt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843280" y="4870440"/>
          <a:ext cx="2519280" cy="928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43280" y="4870440"/>
                    <a:ext cx="25192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003640" y="5707080"/>
          <a:ext cx="2160720" cy="431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03640" y="5707080"/>
                    <a:ext cx="2160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 rot="5400000">
            <a:off x="4717080" y="5733360"/>
            <a:ext cx="216000" cy="217440"/>
          </a:xfrm>
          <a:custGeom>
            <a:avLst/>
            <a:gdLst>
              <a:gd name="textAreaLeft" fmla="*/ 72000 w 216000"/>
              <a:gd name="textAreaRight" fmla="*/ 185040 w 216000"/>
              <a:gd name="textAreaTop" fmla="*/ 125280 h 217440"/>
              <a:gd name="textAreaBottom" fmla="*/ 1864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19640" y="476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cf) 0.1 MeV ~ 10</a:t>
            </a:r>
            <a:r>
              <a:rPr b="0" lang="en-US" sz="2400" spc="-1" strike="noStrike" baseline="30000">
                <a:solidFill>
                  <a:srgbClr val="ffffcc"/>
                </a:solidFill>
                <a:latin typeface="Comic Sans MS"/>
              </a:rPr>
              <a:t>9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916360" y="6165720"/>
          <a:ext cx="2200320" cy="439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16360" y="6165720"/>
                    <a:ext cx="220032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ime evolution of light ele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rcRect l="10708" t="3756" r="5959" b="9188"/>
          <a:stretch/>
        </p:blipFill>
        <p:spPr>
          <a:xfrm>
            <a:off x="1403280" y="522360"/>
            <a:ext cx="6335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Positron Exces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0000" y="404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PAMELA satellite repor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15638" b="0"/>
          <a:stretch/>
        </p:blipFill>
        <p:spPr>
          <a:xfrm>
            <a:off x="971640" y="981000"/>
            <a:ext cx="5832360" cy="5502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916360" y="6400800"/>
            <a:ext cx="655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Adriani et al,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arXiv:0810.4995v1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[astro-ph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19280" y="4941720"/>
          <a:ext cx="3880080" cy="3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9280" y="4941720"/>
                    <a:ext cx="38800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0880" y="1523880"/>
            <a:ext cx="83059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Observational Light Element Abundanc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908000" y="1557360"/>
          <a:ext cx="2706840" cy="473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08000" y="1557360"/>
                    <a:ext cx="27068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5651640" y="1773360"/>
            <a:ext cx="3200400" cy="307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eimbert,Lridiana, Peimbert(2007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2133720"/>
            <a:ext cx="3200400" cy="307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zotov,Thuan, Stasinska (2007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806480" y="2701800"/>
          <a:ext cx="3622680" cy="459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06480" y="2701800"/>
                    <a:ext cx="362268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6516720" y="3860640"/>
            <a:ext cx="2322360" cy="307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elendez,Ramirez(2004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887480" y="3789360"/>
          <a:ext cx="4365720" cy="457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87480" y="3789360"/>
                    <a:ext cx="4365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5651640" y="2781360"/>
            <a:ext cx="3200400" cy="307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’Meara  et al. (200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657440" y="5110200"/>
          <a:ext cx="4516200" cy="479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657440" y="5110200"/>
                    <a:ext cx="4516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516720" y="5300640"/>
            <a:ext cx="2265480" cy="307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splund et al(200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979640" y="5950080"/>
          <a:ext cx="2898720" cy="404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979640" y="5950080"/>
                    <a:ext cx="28987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6084720" y="6095880"/>
            <a:ext cx="2678400" cy="307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Geiss and Gloeckler (200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0"/>
          <a:stretch/>
        </p:blipFill>
        <p:spPr>
          <a:xfrm>
            <a:off x="7620120" y="228600"/>
            <a:ext cx="1028520" cy="10317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651640" y="1413000"/>
            <a:ext cx="3200400" cy="307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Fukugita, Kawasaki (200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9280" y="4653000"/>
            <a:ext cx="8785440" cy="20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90720" y="304920"/>
            <a:ext cx="7467480" cy="6324480"/>
          </a:xfrm>
          <a:prstGeom prst="verticalScroll">
            <a:avLst>
              <a:gd name="adj" fmla="val 660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rcRect l="0" t="33834" r="4239" b="0"/>
          <a:stretch/>
        </p:blipFill>
        <p:spPr>
          <a:xfrm>
            <a:off x="1905120" y="844560"/>
            <a:ext cx="5790960" cy="5662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0" y="304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BB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5148360" y="6093000"/>
          <a:ext cx="1152360" cy="42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6093000"/>
                    <a:ext cx="11523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90720" y="304920"/>
            <a:ext cx="7467480" cy="6324480"/>
          </a:xfrm>
          <a:prstGeom prst="verticalScroll">
            <a:avLst>
              <a:gd name="adj" fmla="val 660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33843" r="6875" b="0"/>
          <a:stretch/>
        </p:blipFill>
        <p:spPr>
          <a:xfrm>
            <a:off x="1981080" y="914400"/>
            <a:ext cx="5334120" cy="53625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04920" y="4343400"/>
            <a:ext cx="1331640" cy="13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4140360" y="6165720"/>
          <a:ext cx="487836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6165720"/>
                    <a:ext cx="4878360" cy="565200"/>
                  </a:xfrm>
                  <a:prstGeom prst="rect">
                    <a:avLst/>
                  </a:prstGeom>
                  <a:ln w="255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4788000" y="5734080"/>
          <a:ext cx="115236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5734080"/>
                    <a:ext cx="11523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nnihilation or decay during/after BBN epoc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26920" y="1916280"/>
            <a:ext cx="7705800" cy="1207800"/>
          </a:xfrm>
          <a:prstGeom prst="downArrowCallout">
            <a:avLst>
              <a:gd name="adj1" fmla="val 12584"/>
              <a:gd name="adj2" fmla="val 24841"/>
              <a:gd name="adj3" fmla="val 18602"/>
              <a:gd name="adj4" fmla="val 66667"/>
            </a:avLst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00000" y="228600"/>
            <a:ext cx="7632720" cy="1752480"/>
          </a:xfrm>
          <a:prstGeom prst="downArrowCallout">
            <a:avLst>
              <a:gd name="adj1" fmla="val 13672"/>
              <a:gd name="adj2" fmla="val 14094"/>
              <a:gd name="adj3" fmla="val 10236"/>
              <a:gd name="adj4" fmla="val 81398"/>
            </a:avLst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71640" y="304920"/>
            <a:ext cx="75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99"/>
                </a:solidFill>
                <a:latin typeface="Comic Sans MS"/>
              </a:rPr>
              <a:t>Massive particle decaying/annihilating during/after BBN epoch produces</a:t>
            </a:r>
            <a:r>
              <a:rPr b="0" lang="ja-JP" sz="2800" spc="-1" strike="noStrike">
                <a:solidFill>
                  <a:srgbClr val="00ff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99"/>
                </a:solidFill>
                <a:latin typeface="Comic Sans MS"/>
              </a:rPr>
              <a:t>high energy photons,</a:t>
            </a:r>
            <a:r>
              <a:rPr b="0" lang="ja-JP" sz="2800" spc="-1" strike="noStrike">
                <a:solidFill>
                  <a:srgbClr val="00ff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99"/>
                </a:solidFill>
                <a:latin typeface="Comic Sans MS"/>
              </a:rPr>
              <a:t>hadrons, and neutri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00000" y="206064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struction/production/dilution of light 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00000" y="3141720"/>
            <a:ext cx="7632720" cy="45972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everer constraints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the number den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00000" y="4076640"/>
            <a:ext cx="75978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Sato and Kobayashi (1977), Lindley (1984,1985), Khlopov and Linde (1984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Ellis, Kim, Nanopoulos, (1984); Ellis, Nanopoulos, Sarkar (198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Kawasaki and Sato (198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Reno and Seckel (1988), Dimopoulos, Esmailzadeh, Hall, Starkman (198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Kawasaki, Moroi (1994), Sigl et al (95), Holtmann et al (9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Jedamzik (2000), Kawasaki, Kohri, Moroi (2001), Kohri(2001), </a:t>
            </a:r>
            <a:r>
              <a:rPr b="0" lang="ja-JP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Cyburt, Ellis, Fields, Olive (200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Kawasaki, Kohri, Moroi(04), Jedamzik (0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447920" y="304920"/>
            <a:ext cx="6781680" cy="6324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rcRect l="0" t="0" r="0" b="28402"/>
          <a:stretch/>
        </p:blipFill>
        <p:spPr>
          <a:xfrm>
            <a:off x="1752480" y="457200"/>
            <a:ext cx="5688000" cy="57625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133720" y="1371600"/>
            <a:ext cx="5029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92360" y="907920"/>
            <a:ext cx="6049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Electromagnetic m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59280" y="1628640"/>
            <a:ext cx="86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00720" y="551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l10"/>
                <a:ea typeface="ＭＳ 明朝"/>
              </a:rPr>
              <a:t>D + p +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32000" y="5445000"/>
            <a:ext cx="460872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35640" y="6165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e3/D &gt;~ O(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47640" y="1413000"/>
            <a:ext cx="64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050920" y="1844640"/>
          <a:ext cx="5626080" cy="5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1844640"/>
                    <a:ext cx="56260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50920" y="404640"/>
            <a:ext cx="582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Hadronic  m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82640" y="2133720"/>
          <a:ext cx="7148520" cy="30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2133720"/>
                    <a:ext cx="714852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1835280" y="2276640"/>
          <a:ext cx="4489200" cy="91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76640"/>
                    <a:ext cx="448920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611280" y="981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Extraordinary inter-conversion reactions between n and p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89600" y="2087640"/>
            <a:ext cx="1371600" cy="12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57960" y="26370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dron induced 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050920" y="3500280"/>
          <a:ext cx="4800600" cy="9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500280"/>
                    <a:ext cx="48006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4343400" y="44197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ven after freeze-out of n/p in SBB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14800" y="5105520"/>
            <a:ext cx="9907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95480" y="5943600"/>
            <a:ext cx="4191120" cy="52056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More He4, D, Li7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1413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c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549440" y="1413000"/>
          <a:ext cx="2089080" cy="46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9440" y="1413000"/>
                    <a:ext cx="20890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4140360" y="1413000"/>
          <a:ext cx="2089080" cy="46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1413000"/>
                    <a:ext cx="20890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179280" y="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 u="sng">
                <a:solidFill>
                  <a:srgbClr val="ffffcc"/>
                </a:solidFill>
                <a:uFillTx/>
                <a:latin typeface="Comic Sans MS"/>
              </a:rPr>
              <a:t>（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I) Early stage of BBN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T &gt; 0.1Me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27640" y="90792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no and Seckel (1988)  Kohri (200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79280" y="1484280"/>
            <a:ext cx="8597880" cy="5373720"/>
          </a:xfrm>
          <a:prstGeom prst="foldedCorner">
            <a:avLst>
              <a:gd name="adj" fmla="val 954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cc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II) Late stage of BBN  (T &lt; 0.1MeV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50920" y="907920"/>
            <a:ext cx="57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ff"/>
                </a:solidFill>
                <a:uFillTx/>
                <a:latin typeface="Comic Sans MS"/>
              </a:rPr>
              <a:t>Hadronic showers and “Hadro-dissociation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38680" y="90792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99"/>
                </a:solidFill>
                <a:latin typeface="Comic Sans MS"/>
              </a:rPr>
              <a:t>S. Dimopoulos et al. (198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50920" y="1484280"/>
            <a:ext cx="7776720" cy="5040000"/>
            <a:chOff x="250920" y="1484280"/>
            <a:chExt cx="7776720" cy="5040000"/>
          </a:xfrm>
        </p:grpSpPr>
        <p:pic>
          <p:nvPicPr>
            <p:cNvPr id="372" name="" descr=""/>
            <p:cNvPicPr/>
            <p:nvPr/>
          </p:nvPicPr>
          <p:blipFill>
            <a:blip r:embed="rId1"/>
            <a:srcRect l="0" t="2165" r="7746" b="3994"/>
            <a:stretch/>
          </p:blipFill>
          <p:spPr>
            <a:xfrm>
              <a:off x="411480" y="1484280"/>
              <a:ext cx="7616160" cy="50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816840" y="3010320"/>
              <a:ext cx="728640" cy="42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4" name=""/>
            <p:cNvGraphicFramePr/>
            <p:nvPr/>
          </p:nvGraphicFramePr>
          <p:xfrm>
            <a:off x="816840" y="3042360"/>
            <a:ext cx="728640" cy="392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6840" y="3042360"/>
                      <a:ext cx="728640" cy="3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"/>
            <p:cNvSpPr/>
            <p:nvPr/>
          </p:nvSpPr>
          <p:spPr>
            <a:xfrm>
              <a:off x="250920" y="3010320"/>
              <a:ext cx="1377000" cy="59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6840" y="2842200"/>
              <a:ext cx="73044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 (p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5940360" y="1197000"/>
            <a:ext cx="303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99"/>
                </a:solidFill>
                <a:latin typeface="Comic Sans MS"/>
              </a:rPr>
              <a:t>Kawasaki, Kohri, Moroi (2004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on-thermal Li, Be Production by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nergetic nucleons or phot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32720" y="9810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imopoulos et al (1989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250920" y="1773360"/>
          <a:ext cx="3363840" cy="90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773360"/>
                    <a:ext cx="336384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3611520" y="4437000"/>
          <a:ext cx="404496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11520" y="4437000"/>
                    <a:ext cx="40449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3371760" y="5002200"/>
          <a:ext cx="4251240" cy="44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71760" y="5002200"/>
                    <a:ext cx="42512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250920" y="2924280"/>
          <a:ext cx="336528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0920" y="2924280"/>
                    <a:ext cx="336528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3611520" y="6093000"/>
          <a:ext cx="3622680" cy="431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11520" y="6093000"/>
                    <a:ext cx="36226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"/>
          <p:cNvGrpSpPr/>
          <p:nvPr/>
        </p:nvGrpSpPr>
        <p:grpSpPr>
          <a:xfrm>
            <a:off x="4859280" y="1916280"/>
            <a:ext cx="761760" cy="609480"/>
            <a:chOff x="4859280" y="1916280"/>
            <a:chExt cx="761760" cy="609480"/>
          </a:xfrm>
        </p:grpSpPr>
        <p:sp>
          <p:nvSpPr>
            <p:cNvPr id="396" name=""/>
            <p:cNvSpPr/>
            <p:nvPr/>
          </p:nvSpPr>
          <p:spPr>
            <a:xfrm>
              <a:off x="4859280" y="19162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40160" y="1992240"/>
              <a:ext cx="380880" cy="38124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35240" y="2144880"/>
              <a:ext cx="381240" cy="3808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859280" y="2565360"/>
            <a:ext cx="838080" cy="685800"/>
            <a:chOff x="4859280" y="2565360"/>
            <a:chExt cx="838080" cy="685800"/>
          </a:xfrm>
        </p:grpSpPr>
        <p:sp>
          <p:nvSpPr>
            <p:cNvPr id="400" name=""/>
            <p:cNvSpPr/>
            <p:nvPr/>
          </p:nvSpPr>
          <p:spPr>
            <a:xfrm>
              <a:off x="4935240" y="2565360"/>
              <a:ext cx="381240" cy="38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16480" y="2641680"/>
              <a:ext cx="380880" cy="3808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87880" y="28702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59280" y="2870280"/>
              <a:ext cx="380880" cy="3808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242120" y="2220840"/>
            <a:ext cx="838080" cy="685800"/>
            <a:chOff x="7242120" y="2220840"/>
            <a:chExt cx="838080" cy="685800"/>
          </a:xfrm>
        </p:grpSpPr>
        <p:sp>
          <p:nvSpPr>
            <p:cNvPr id="405" name=""/>
            <p:cNvSpPr/>
            <p:nvPr/>
          </p:nvSpPr>
          <p:spPr>
            <a:xfrm>
              <a:off x="7318080" y="2220840"/>
              <a:ext cx="381240" cy="38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9320" y="2297160"/>
              <a:ext cx="380880" cy="3808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70720" y="25257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42120" y="2525760"/>
              <a:ext cx="380880" cy="3808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867280" y="2421000"/>
            <a:ext cx="1219320" cy="22860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708360" y="1989000"/>
          <a:ext cx="1123920" cy="519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08360" y="1989000"/>
                    <a:ext cx="1123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8294760" y="2297160"/>
          <a:ext cx="691920" cy="461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94760" y="2297160"/>
                    <a:ext cx="69192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3924360" y="2708280"/>
          <a:ext cx="691920" cy="461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24360" y="2708280"/>
                    <a:ext cx="69192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5651640" y="29242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ergy lo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5280" y="3933720"/>
            <a:ext cx="43927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Comic Sans MS"/>
              </a:rPr>
              <a:t>T(He3) – He4 coll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Comic Sans MS"/>
              </a:rPr>
              <a:t>He4 – He4 coll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32720" y="126828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Jedamzik (200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lectron and positron flux by Fermi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27840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Abdo et al, Fermi LAT Collaboration, </a:t>
            </a:r>
            <a:r>
              <a:rPr b="1" lang="en-US" sz="1800" spc="-1" strike="noStrike">
                <a:solidFill>
                  <a:srgbClr val="ffffcc"/>
                </a:solidFill>
                <a:latin typeface="Comic Sans MS"/>
              </a:rPr>
              <a:t>arXiv:0905.0025, PRL102</a:t>
            </a: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  (09) 1811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878" t="9203" r="10189" b="2557"/>
          <a:stretch/>
        </p:blipFill>
        <p:spPr>
          <a:xfrm>
            <a:off x="1042920" y="1052640"/>
            <a:ext cx="676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Residual annihilation of DM even at around BBN epoc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it the PAMELA and ATIC2/Fermi positron and electron signals 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least it must emit charged lep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ight also emit had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2627280" y="3141720"/>
          <a:ext cx="322416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141720"/>
                    <a:ext cx="322416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1332000" y="4653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lectromagnetic cascade shower is indu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35280" y="5805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Hadronic cascade shower is indu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adron emission by residual annihilation in BBN epoc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716800" cy="48513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771640" y="5300640"/>
            <a:ext cx="34560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16360" y="119700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Comic Sans MS"/>
              </a:rPr>
              <a:t>Hisano, Kawasaki, Kohri, Moroi, Nakayama (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820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harged-lepton (e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) emission by residual annihilation in BBN epoc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16360" y="126828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Comic Sans MS"/>
              </a:rPr>
              <a:t>Hisano, Kawasaki, Kohri, Moroi, Nakayama (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904000" cy="49244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2771640" y="5516640"/>
            <a:ext cx="34560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sidual annihilation and CMB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15328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Energy injection affects the recombination 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Changing the ionization fraction affects CMB anisotropy very sensit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00000" y="1341360"/>
            <a:ext cx="77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elicov and Hooper (09); Galli, Iocco, Bertone, Melchiorri (09); Huetsi, Hektor, Raidal (09) Cirelli, Iocco, Panci (09); Slatyer, Padmanabhan, Finkbeiner (09); Kanzaki, Kawasaki, Nakayama (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nstraint from CMB anisotrop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rcRect l="8338" t="5207" r="10403" b="0"/>
          <a:stretch/>
        </p:blipFill>
        <p:spPr>
          <a:xfrm>
            <a:off x="1476360" y="1341360"/>
            <a:ext cx="5759640" cy="5391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4932360" y="9079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anzaki, Kawasaki, Nakayama (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What is the origin of Boost Factor (BF~10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BF  = &lt;σv&gt;</a:t>
            </a:r>
            <a:r>
              <a:rPr b="0" lang="en-US" sz="2800" spc="-1" strike="noStrike" baseline="-25000">
                <a:solidFill>
                  <a:srgbClr val="ffccff"/>
                </a:solidFill>
                <a:latin typeface="Times New Roman"/>
              </a:rPr>
              <a:t>obs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/ &lt;σv&gt;</a:t>
            </a:r>
            <a:r>
              <a:rPr b="0" lang="en-US" sz="2800" spc="-1" strike="noStrike" baseline="-25000">
                <a:solidFill>
                  <a:srgbClr val="ffccff"/>
                </a:solidFill>
                <a:latin typeface="Times New Roman"/>
              </a:rPr>
              <a:t>canonic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Local enhancement of DM density in astroph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Sommerfeld eff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19280" y="3789360"/>
            <a:ext cx="666108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ght particle exchange annihilation for  m &lt; α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D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(a kind of bound state formation, see also Hisano-Matsumoto-Nojiri (03)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on-perturbative eff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Enhancement of cross section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&lt;σv&gt;~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c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/s  withou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reaking  Unitarity and perturbation the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51280" y="306864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Arkani-Hamed et al (08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Velocity-dependent annihilation cross section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18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merfeld or Breit-Wigner enhan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straint from BBN and CMB is nontriv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1187280" y="2349360"/>
          <a:ext cx="6770880" cy="11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349360"/>
                    <a:ext cx="677088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1258920" y="5877000"/>
            <a:ext cx="71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See Zavala, Vogelsberger, White (09) for the constraint from  μ-distortion of C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990720" y="4437000"/>
          <a:ext cx="7400880" cy="5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437000"/>
                    <a:ext cx="740088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187280" y="5013360"/>
          <a:ext cx="722484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5013360"/>
                    <a:ext cx="72248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979640" y="83664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Comic Sans MS"/>
              </a:rPr>
              <a:t>Hisano, Kawasaki, Kohri, Nakayama, arXiv: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  <a:ea typeface="Arial"/>
              </a:rPr>
              <a:t>0810.1892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  <a:ea typeface="Arial"/>
              </a:rPr>
              <a:t> [hep-ph]</a:t>
            </a:r>
            <a:r>
              <a:rPr b="0" lang="en-US" sz="1800" spc="-1" strike="noStrike">
                <a:solidFill>
                  <a:srgbClr val="ffcc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79280" y="18900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Gamma-ray signal from DM annihi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rcRect l="1334" t="16564" r="0" b="13258"/>
          <a:stretch/>
        </p:blipFill>
        <p:spPr>
          <a:xfrm>
            <a:off x="1116000" y="2133720"/>
            <a:ext cx="6667560" cy="11905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79280" y="1268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Gamma-ray flu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3708360" y="3789360"/>
          <a:ext cx="1944720" cy="11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3789360"/>
                    <a:ext cx="19447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68360" y="350028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veraged 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5280" y="4797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Pro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5640" y="52293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Navarro-Frank-White (NFW): cusp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003640" y="5589720"/>
          <a:ext cx="3095640" cy="51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3640" y="5589720"/>
                    <a:ext cx="30956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684360" y="59500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Isothermal (iso): cor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4962600" y="6237360"/>
          <a:ext cx="4019400" cy="51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62600" y="6237360"/>
                    <a:ext cx="40194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508720" y="620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Comic Sans MS"/>
              </a:rPr>
              <a:t>Kawasaki, Kohri, Nakayama (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9280" y="18900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Gamma-ray signal from GC by DM annihi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rcRect l="3489" t="0" r="7804" b="0"/>
          <a:stretch/>
        </p:blipFill>
        <p:spPr>
          <a:xfrm>
            <a:off x="0" y="1320840"/>
            <a:ext cx="7345440" cy="55371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rcRect l="8534" t="16639" r="36034" b="0"/>
          <a:stretch/>
        </p:blipFill>
        <p:spPr>
          <a:xfrm>
            <a:off x="4643280" y="907920"/>
            <a:ext cx="4500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sults by Meade et al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38560" y="112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Meade, Papucci, Strumia, Volansky, arXiv:0905.043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rcRect l="0" t="1967" r="0" b="67211"/>
          <a:stretch/>
        </p:blipFill>
        <p:spPr>
          <a:xfrm>
            <a:off x="826920" y="2060640"/>
            <a:ext cx="3867480" cy="38876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rcRect l="0" t="69523" r="0" b="-1659"/>
          <a:stretch/>
        </p:blipFill>
        <p:spPr>
          <a:xfrm>
            <a:off x="5076720" y="2060640"/>
            <a:ext cx="3916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is the origin of e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excess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125360"/>
            <a:ext cx="815328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le-physics ori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trophysical ori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92000" y="1989000"/>
            <a:ext cx="588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Annihilating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Decaying 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19280" y="4508640"/>
            <a:ext cx="5886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Puls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Supernova Remnants (SN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Gamma-ray bur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3068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e Fuminobu Takahashi’s tal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242100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e also Toshifumi Yamada’s and Patrick Fox’s tal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5813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e Norita Kawanaka’s tal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5805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e also Subir Sarkar’s tal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64911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e Kunihito Ioka, arXiv:0812.4851[astro-ph] or Kawanaka’s tal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1844640"/>
            <a:ext cx="69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1844640"/>
            <a:ext cx="6696000" cy="64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0200" y="5227560"/>
            <a:ext cx="6696360" cy="64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1700280"/>
            <a:ext cx="4356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BN, CMB,  Gamma-ray, ν, gal. pro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43640" y="3573360"/>
            <a:ext cx="2700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fuse-gamma-r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08720" y="4653000"/>
            <a:ext cx="1621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nisotrop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3280" y="5445000"/>
            <a:ext cx="865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/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6093000"/>
            <a:ext cx="1621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nisotrop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amma-ray obs by Fermi LAT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rcRect l="0" t="16069" r="10010" b="25407"/>
          <a:stretch/>
        </p:blipFill>
        <p:spPr>
          <a:xfrm>
            <a:off x="1187280" y="2060640"/>
            <a:ext cx="6912000" cy="44784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5759280" y="1268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bdo et al, 0908.117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547640" y="1773360"/>
          <a:ext cx="1225800" cy="26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773360"/>
                    <a:ext cx="12258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6156360" y="6629400"/>
          <a:ext cx="2349360" cy="22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6360" y="6629400"/>
                    <a:ext cx="2349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4643280" y="62064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Comic Sans MS"/>
              </a:rPr>
              <a:t>Kawasaki, Kohri, Nakayama (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9280" y="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Extragalactic diffuse Gamma-ray by DM annihi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rcRect l="8003" t="5433" r="15012" b="0"/>
          <a:stretch/>
        </p:blipFill>
        <p:spPr>
          <a:xfrm>
            <a:off x="1258920" y="1125360"/>
            <a:ext cx="604836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58560" y="189000"/>
            <a:ext cx="87850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Neutrinos from galactic center expected by PAMELA/ATIC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18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ing up-going muons in Kamio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nihilation (upper panel) and decay (lower pan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-neutrino emission modes with NFW are exclu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4000" y="1125360"/>
            <a:ext cx="45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Comic Sans MS"/>
              </a:rPr>
              <a:t>Hisano, Kawasaki, Kohri, Nakayama (08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Comic Sans MS"/>
              </a:rPr>
              <a:t>Hisano, Nakayama Yang(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4932360" y="981000"/>
            <a:ext cx="38736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strophysical origi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15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upernova Remnants (SN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Puls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GR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187280" y="1773360"/>
            <a:ext cx="671364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613800" indent="-613800">
              <a:spcBef>
                <a:spcPts val="799"/>
              </a:spcBef>
              <a:buClr>
                <a:srgbClr val="ffffcc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cal and old unknown SNR with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2 in radiative ph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13800" indent="-613800">
              <a:spcBef>
                <a:spcPts val="799"/>
              </a:spcBef>
              <a:buClr>
                <a:srgbClr val="ffffcc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13800" indent="-613800">
              <a:spcBef>
                <a:spcPts val="799"/>
              </a:spcBef>
              <a:buClr>
                <a:srgbClr val="ffffcc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stically-known SNRs with (re)acceleration of secondary posi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13800" indent="-61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03640" y="278136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ujita, Kohri, Yamazaki, Ioka (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48360" y="4508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hlers, Mertsch, Sarkar (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50920" y="53737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e Kawanaka’s tal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00240" y="5877000"/>
            <a:ext cx="49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e Kunihito Ioka, arXiv:0812.4851[astro-ph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 old SNR near the Eart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 was accelerated at a local SNR (&lt;200 pc)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 dense gas cloud (n~50/cc)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years a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-p collision produces pion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lectrons and positrons which propagated for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oud had alrerady disappeared (see Loop I, Local Buble as  its vesti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proton was also produ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727280" y="2852640"/>
          <a:ext cx="59688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2852640"/>
                    <a:ext cx="59688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3635280" y="11970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Fujita, Kohri, Yamazaki, Ioka,  arXiv:</a:t>
            </a:r>
            <a:r>
              <a:rPr b="1" lang="en-US" sz="1800" spc="-1" strike="noStrike">
                <a:solidFill>
                  <a:srgbClr val="ffffcc"/>
                </a:solidFill>
                <a:latin typeface="Comic Sans MS"/>
              </a:rPr>
              <a:t>0903.5298</a:t>
            </a: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68680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Source spectr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Diffusion 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984320" cy="52704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rcRect l="2646" t="12429" r="0" b="8950"/>
          <a:stretch/>
        </p:blipFill>
        <p:spPr>
          <a:xfrm>
            <a:off x="900000" y="2349360"/>
            <a:ext cx="7937640" cy="136692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3059280" y="907920"/>
            <a:ext cx="3497040" cy="6066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4"/>
          <a:srcRect l="2432" t="14584" r="0" b="12440"/>
          <a:stretch/>
        </p:blipFill>
        <p:spPr>
          <a:xfrm>
            <a:off x="2124000" y="5300640"/>
            <a:ext cx="5796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itted to Fermi by local SNR mode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rcRect l="4671" t="0" r="5185" b="0"/>
          <a:stretch/>
        </p:blipFill>
        <p:spPr>
          <a:xfrm>
            <a:off x="684360" y="1535040"/>
            <a:ext cx="5616360" cy="532296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3635280" y="9079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Fujita, Kohri, Yamazaki, Ioka,  arXiv:</a:t>
            </a:r>
            <a:r>
              <a:rPr b="1" lang="en-US" sz="1800" spc="-1" strike="noStrike">
                <a:solidFill>
                  <a:srgbClr val="ffffcc"/>
                </a:solidFill>
                <a:latin typeface="Comic Sans MS"/>
              </a:rPr>
              <a:t>0903.5298</a:t>
            </a: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itted to Fermi by local SNR mode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p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635280" y="9079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Fujita, Kohri, Yamazaki, Ioka,  arXiv:</a:t>
            </a:r>
            <a:r>
              <a:rPr b="1" lang="en-US" sz="1800" spc="-1" strike="noStrike">
                <a:solidFill>
                  <a:srgbClr val="ffffcc"/>
                </a:solidFill>
                <a:latin typeface="Comic Sans MS"/>
              </a:rPr>
              <a:t>0903.5298</a:t>
            </a: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rcRect l="6532" t="7795" r="4952" b="0"/>
          <a:stretch/>
        </p:blipFill>
        <p:spPr>
          <a:xfrm>
            <a:off x="3059280" y="1773360"/>
            <a:ext cx="547344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itted to Fermi by pp collision mode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7128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/C is also increas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92360" y="817560"/>
            <a:ext cx="4680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Mertsch and Sarkar,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arXiv:0905.3152v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rcRect l="0" t="0" r="0" b="25689"/>
          <a:stretch/>
        </p:blipFill>
        <p:spPr>
          <a:xfrm>
            <a:off x="1116000" y="1916280"/>
            <a:ext cx="6907320" cy="45799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2268360" y="3284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AO-3-C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932360" y="278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TIC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867280" y="342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CRE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ihilation scenarios may have  some problems to agree with BBN, CMB, and gamma-ray backgrou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should be nontrivial to remove these discrepancies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we adopt Sommerfeld or Breit-Wigner enhancement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astrophysical origin, so far we have not excluded a possible peculiar object such as a local and old SNR near the solar sys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nother aspects of annihilating D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76360" y="2420640"/>
            <a:ext cx="71992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Big Bang Nucleosynthesis (BB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Cosmic Microwave Background (CM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Gamma-ray background ( gal. and extra-gal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Neutri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79640" y="981000"/>
            <a:ext cx="5113440" cy="5113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356000" y="638172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map.gsfc.nasa.gov/media/0609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rk Matter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659640" y="3933720"/>
          <a:ext cx="1944720" cy="55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3933720"/>
                    <a:ext cx="19447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948360" y="4508640"/>
          <a:ext cx="1297080" cy="97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48360" y="4508640"/>
                    <a:ext cx="12970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rmal freezeo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4222" t="0" r="0" b="0"/>
          <a:stretch/>
        </p:blipFill>
        <p:spPr>
          <a:xfrm>
            <a:off x="0" y="1700280"/>
            <a:ext cx="4068720" cy="695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-684360" y="1125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Boltzmann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99960" y="14400"/>
          <a:ext cx="114480" cy="16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14400"/>
                    <a:ext cx="11448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68360" y="2492280"/>
          <a:ext cx="2205000" cy="117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2492280"/>
                    <a:ext cx="220500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66560" y="4149720"/>
          <a:ext cx="2975040" cy="1365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6560" y="4149720"/>
                    <a:ext cx="297504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68360" y="3716280"/>
          <a:ext cx="1987560" cy="449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60" y="3716280"/>
                    <a:ext cx="19875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0" y="5589720"/>
            <a:ext cx="45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Ω</a:t>
            </a:r>
            <a:r>
              <a:rPr b="0" lang="en-US" sz="2400" spc="-1" strike="noStrike" baseline="-25000">
                <a:solidFill>
                  <a:srgbClr val="ffccff"/>
                </a:solidFill>
                <a:latin typeface="Comic Sans MS"/>
              </a:rPr>
              <a:t>χ</a:t>
            </a: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 does not depend on m</a:t>
            </a:r>
            <a:r>
              <a:rPr b="0" lang="en-US" sz="2400" spc="-1" strike="noStrike" baseline="-25000">
                <a:solidFill>
                  <a:srgbClr val="ffccff"/>
                </a:solidFill>
                <a:latin typeface="Comic Sans MS"/>
              </a:rPr>
              <a:t>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27640" y="5300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Kolb &amp; Tur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08000" y="6237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Predicting TeV Physics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1844640"/>
            <a:ext cx="720720" cy="432000"/>
          </a:xfrm>
          <a:prstGeom prst="ellipse">
            <a:avLst/>
          </a:prstGeom>
          <a:noFill/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63640" y="1773360"/>
            <a:ext cx="1295640" cy="574560"/>
          </a:xfrm>
          <a:prstGeom prst="ellipse">
            <a:avLst/>
          </a:prstGeom>
          <a:noFill/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00720" y="6237360"/>
          <a:ext cx="3670200" cy="581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00720" y="6237360"/>
                    <a:ext cx="3670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"/>
          <p:cNvGrpSpPr/>
          <p:nvPr/>
        </p:nvGrpSpPr>
        <p:grpSpPr>
          <a:xfrm>
            <a:off x="4284720" y="907920"/>
            <a:ext cx="4859280" cy="4302360"/>
            <a:chOff x="4284720" y="907920"/>
            <a:chExt cx="4859280" cy="4302360"/>
          </a:xfrm>
        </p:grpSpPr>
        <p:pic>
          <p:nvPicPr>
            <p:cNvPr id="150" name="" descr=""/>
            <p:cNvPicPr/>
            <p:nvPr/>
          </p:nvPicPr>
          <p:blipFill>
            <a:blip r:embed="rId12"/>
            <a:srcRect l="9858" t="0" r="0" b="0"/>
            <a:stretch/>
          </p:blipFill>
          <p:spPr>
            <a:xfrm>
              <a:off x="4284720" y="907920"/>
              <a:ext cx="4859280" cy="4302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51" name=""/>
            <p:cNvGraphicFramePr/>
            <p:nvPr/>
          </p:nvGraphicFramePr>
          <p:xfrm>
            <a:off x="5076720" y="2276640"/>
            <a:ext cx="420840" cy="79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076720" y="2276640"/>
                      <a:ext cx="420840" cy="7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Positron Exces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14932" r="0" b="3200"/>
          <a:stretch/>
        </p:blipFill>
        <p:spPr>
          <a:xfrm>
            <a:off x="1042920" y="1773360"/>
            <a:ext cx="6087960" cy="158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124000" y="4076640"/>
            <a:ext cx="4822920" cy="547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84360" y="4941720"/>
            <a:ext cx="69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Steady-state solution (Hisano etal, ’0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5300640"/>
            <a:ext cx="69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K(E) and b(E) are taken from (Baltz-Edsjo ’9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125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Diffusion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200" y="3035160"/>
            <a:ext cx="203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500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lu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566100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Propagating within a few kpc, normalized to fit B/C, Boost Factor (BF) considered for clumpy distributed D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55720" y="6219720"/>
          <a:ext cx="750420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5720" y="6219720"/>
                    <a:ext cx="75042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268280"/>
            <a:ext cx="35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Comic Sans MS"/>
              </a:rPr>
              <a:t>Hisano, Kawasaki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Comic Sans MS"/>
              </a:rPr>
              <a:t>Kohri, Moroi, Nakayama (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0"/>
            <a:ext cx="36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Positron ex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in DM annihi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8000" y="263700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iffusion 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tted to B/C rat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5114" t="6463" r="0" b="0"/>
          <a:stretch/>
        </p:blipFill>
        <p:spPr>
          <a:xfrm>
            <a:off x="3876840" y="0"/>
            <a:ext cx="52671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609480" y="3860640"/>
          <a:ext cx="2722680" cy="5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860640"/>
                    <a:ext cx="27226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5:40:01Z</dcterms:created>
  <dc:creator>kohri</dc:creator>
  <dc:description/>
  <dc:language>en-US</dc:language>
  <cp:lastModifiedBy>Kazunori Kohri</cp:lastModifiedBy>
  <dcterms:modified xsi:type="dcterms:W3CDTF">2009-11-12T08:02:36Z</dcterms:modified>
  <cp:revision>1701</cp:revision>
  <dc:subject/>
  <dc:title>Hadronic decay of SUSY particle and destruction of light elements </dc:title>
</cp:coreProperties>
</file>