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5DB-A93C-49AB-B275-1A34A7FC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D8F-0E0B-4E22-A32C-37315212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45C-D120-44C5-A5BA-7CBD121F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940-35D7-427F-A0BE-EDB26BE1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452-F9F6-4A19-A42B-39C1719E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46E-96AB-4A9C-AC79-DB3DA89A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99C-895C-493F-A8D3-8A739FCA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134-097E-4ABC-9DC5-BD866D5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50D-8704-4AAB-BB4E-C9334A4A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65F-6C1B-475B-B2B7-14D8552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675-829C-4A17-B9CD-BF81721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31A-B22B-4BDB-AADF-003DA97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928C-03E9-49B4-B055-6E227570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付プレースホル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9/11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フッター プレースホル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K Theory Center Cosmophysics Group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nergy resolution GeV gamma-ray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960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ino annihilation line @10-1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708360" y="5229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Os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826920" y="4365720"/>
            <a:ext cx="7705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comprises an absorber and a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, positrons hit all tra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msstrahlung does not hit the 6th layer of the tracker in a magnet and hits any tracker in the counter because of pair creation with the bottom of magnet or lead in 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images of hits on the tracker give information on bremsstrahl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構造３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figure5"/>
          <p:cNvPicPr/>
          <p:nvPr/>
        </p:nvPicPr>
        <p:blipFill>
          <a:blip r:embed="rId1"/>
          <a:stretch/>
        </p:blipFill>
        <p:spPr>
          <a:xfrm>
            <a:off x="684360" y="1676520"/>
            <a:ext cx="774540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24000" y="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etected hits for 100 bremsstrahlung injection into a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% of 100-MeV bremsstrahlung is detected using an additional counter comprising six layers of 5.5-mm-thick lead and a Si stri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this counter, an energy response is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igure6"/>
          <p:cNvPicPr/>
          <p:nvPr/>
        </p:nvPicPr>
        <p:blipFill>
          <a:blip r:embed="rId1"/>
          <a:stretch/>
        </p:blipFill>
        <p:spPr>
          <a:xfrm>
            <a:off x="395280" y="981000"/>
            <a:ext cx="7745400" cy="424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68360" y="18900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electron-positron pairs for which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loss is less than 100 MeV, for 1000 gamma ray injections into the conver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lead, magnets and cryostats also act as conver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0920" y="5229360"/>
            <a:ext cx="867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elected events is almost constant, regardless of the converter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ck materials have high conversion rate, but result in much energy loss by       bremsstrah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Use of Magnet and Cryostat as converters (Q.E is 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figure7"/>
          <p:cNvPicPr/>
          <p:nvPr/>
        </p:nvPicPr>
        <p:blipFill>
          <a:blip r:embed="rId1"/>
          <a:stretch/>
        </p:blipFill>
        <p:spPr>
          <a:xfrm>
            <a:off x="250920" y="836640"/>
            <a:ext cx="7745400" cy="4821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79280" y="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 and positrons also lose energy by bremsstrahlung in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electrons and positrons for which energy loss is less than 100 MeV for 100 injections into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543640" y="5229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Q.E is 80 % for electrons and posi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95280" y="6021360"/>
            <a:ext cx="8353440" cy="642600"/>
          </a:xfrm>
          <a:prstGeom prst="rect">
            <a:avLst/>
          </a:prstGeom>
          <a:solidFill>
            <a:srgbClr val="b3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Q.E. of detector: 4% in conversion x 80 % for electrons in tracker x 80 % for positrons in tracker = 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250920" y="18900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energy resolution with that i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55640" y="692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resolution of our detector is determined by two kinds of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energyres-final4"/>
          <p:cNvPicPr/>
          <p:nvPr/>
        </p:nvPicPr>
        <p:blipFill>
          <a:blip r:embed="rId1"/>
          <a:stretch/>
        </p:blipFill>
        <p:spPr>
          <a:xfrm>
            <a:off x="0" y="1052640"/>
            <a:ext cx="7164360" cy="5805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6588000" y="2060640"/>
            <a:ext cx="2232000" cy="368280"/>
          </a:xfrm>
          <a:prstGeom prst="rect">
            <a:avLst/>
          </a:prstGeom>
          <a:solidFill>
            <a:srgbClr val="b3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%@10-1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7236000" y="371628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E&lt;100 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372360" y="407664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=2T, L=0.8m,</a:t>
            </a:r>
            <a:r>
              <a:rPr b="0" lang="el-GR" sz="1800" spc="-1" strike="noStrike">
                <a:solidFill>
                  <a:srgbClr val="000000"/>
                </a:solidFill>
                <a:latin typeface="ＭＳ Ｐゴシック"/>
              </a:rPr>
              <a:t>σ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=5μ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300720" y="4653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=0.8T, L=1m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=10μ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324000" y="189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effective area with that in other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effectivearea3"/>
          <p:cNvPicPr/>
          <p:nvPr/>
        </p:nvPicPr>
        <p:blipFill>
          <a:blip r:embed="rId1"/>
          <a:stretch/>
        </p:blipFill>
        <p:spPr>
          <a:xfrm>
            <a:off x="0" y="836640"/>
            <a:ext cx="8964720" cy="6021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635280" y="4221000"/>
            <a:ext cx="1584360" cy="368280"/>
          </a:xfrm>
          <a:prstGeom prst="rect">
            <a:avLst/>
          </a:prstGeom>
          <a:solidFill>
            <a:srgbClr val="b3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0 of Fer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79280" y="189000"/>
            <a:ext cx="6696360" cy="368280"/>
          </a:xfrm>
          <a:prstGeom prst="rect">
            <a:avLst/>
          </a:prstGeom>
          <a:solidFill>
            <a:srgbClr val="b3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detector has high energy resolution and low effective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620640"/>
            <a:ext cx="874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e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Neutralino annihilation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of neutralino is expected to be in the GeV energy range in particle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section is too low (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for obser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tatistics enhancement by 1-3 orders around immediate mass blackhole (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nables observation (Horiuchi &amp; Ando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1000 ph @ 100 GeV, 3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enhancement by 3 orders with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merfeld effect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Boosted 511-keV annihilation line from GR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oost factor &gt; 100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inuum gamma-ray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stronomical object          Crab 12 ph @1 GeV, 3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Diffuse galactic gamma-ray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back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9000 ph @ 100 GeV, 3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Diffuse extragalactic gamma-ray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back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900 ph @ 100 GeV, 3 y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Photon on decay of fermions and gauge or Higgs bosons created by neutralino annihilation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-100 ph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10 GeV, 3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11240"/>
            <a:ext cx="889344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cussion o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ne sensi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to noise s/n is given by S A 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/√( B A T ΔE Ω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S: source flux, A: effective area, T: observation time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: field of vei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energy resolution, B: diffuse gam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ray backgroun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for extragalactic neutralino annihilati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n is given by S A T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√( B A 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Here,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proportional to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Ω for all sky observation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galactic neutralino annihilati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line sensitivity S is given by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√(</a:t>
            </a:r>
            <a:r>
              <a:rPr b="0" lang="el-GR" sz="1800" spc="-1" strike="noStrike">
                <a:solidFill>
                  <a:srgbClr val="66ff66"/>
                </a:solidFill>
                <a:latin typeface="Arial"/>
                <a:ea typeface="Arial"/>
              </a:rPr>
              <a:t>ΔE / A Ω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Check if sensitivity is above photon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@100 GeV, extragalactic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Photon limit          S A T Ω &gt; 9 ph ( 3 sigm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sensitivity      s/n = S A 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Ω / √( B A T ΔE Ω)  &gt;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 parameters: A = 0.04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2 str, T = 3 yr, ΔE =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photon limit 1 x 1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0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ph/s/cm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/s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line sensitivity 4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x 1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ph/s/cm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/str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8000" y="4869000"/>
            <a:ext cx="8964720" cy="1894320"/>
          </a:xfrm>
          <a:prstGeom prst="rect">
            <a:avLst/>
          </a:prstGeom>
          <a:solidFill>
            <a:srgbClr val="b3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sensitivity is 2-3 times better than that in AMS and almost the same as that in Fermi @10-1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high energy resolution: results in red shift of neutralino annihilation lin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btain three-dimensional map of neutralino in the 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velocity of the neutralino halo around the Galactic center (&gt;1000 km/s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8900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line sensitivity with that in other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linesensitivity6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8000" y="68400"/>
            <a:ext cx="8964720" cy="67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mmary of past observation results on neutrali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T shows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some ex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ared to secondary gamma rays produced from cosmic ray in a diffuse gamma-ray background and indicates the presence of a neutralino with high enhancement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ELA/BETS/ATIC show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some ex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ared to secondary positrons (electron + positron) produced from cosmic rays in the positron (electron + positron) spectr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sible origin is the pulsar near Earth or neutralino with mass 700 GeV, needing  three orders of 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i shows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no ex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ared to secondary gamma rays produced from cosmic rays in a diffuse gamma-ray background and indicates the presence of a neutralino with a low enhancement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i shows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a small ex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ared to secondary electron + positron produced  from cosmic rays in the electron + positron spectrum and is not consistent with PAMELA/BETS/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detector search for neutralino with mass 10-10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ture plans to resolve this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HC ( 2009/11~ ) determine neutralino mass; neutralino with mass less than 100 GeV will be found within on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observe diffuse gamma-ray background spectrum with other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reproduce EGRET diffuse gamma-ray background spectrum when the origin is possibly in det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5256000" cy="863640"/>
          </a:xfrm>
          <a:prstGeom prst="rect">
            <a:avLst/>
          </a:prstGeom>
          <a:solidFill>
            <a:srgbClr val="b3eae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between GeV gamma rays and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-positron pair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900000" y="1413000"/>
            <a:ext cx="727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iginal method to detect GeV gamma ray inci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om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e pair creation many times using a converter in order to deposit huge amounts of gamma-ray energy and measure the remaining electron and positron energies using a calorime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26920" y="3068640"/>
            <a:ext cx="7920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ticle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of 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particle in a magnet = charge and momentum of charged 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s have been used in space for observation of anti-particles (ATIC, BESS, PAMEL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826920" y="5229360"/>
            <a:ext cx="8066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approach for detecting GeV gamma rays inci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om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e pair creation once by using a very thin converter and determine the track of the pair in a magnet; translate the momentum of the electron and positron into gamma-ray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95280" y="333360"/>
            <a:ext cx="842472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ment of method of Si-strip alignment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: construct detector by using a laser and determine position using CERN beam and cosmic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nergy resolution of detector using CERN b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oon experiment involving small-size detector (dimensions: 0.3 m x 0.3 m x 0.8 m) and a liquid-He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of 4 h ( max10 h) at a 30-km altitude @Hokkaido, Japan, give 20 photons@1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96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Arial"/>
              </a:rPr>
              <a:t>Background for development of new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66"/>
                </a:solidFill>
                <a:latin typeface="Arial"/>
              </a:rPr>
              <a:t>processing technology of Magnet and technique involving use of Magnet of BESS group (Japan, K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66"/>
                </a:solidFill>
                <a:latin typeface="Arial"/>
              </a:rPr>
              <a:t>possible proposal for International Space Station (ISS) kibo#3 (Ja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9640" y="270828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 Operation is formally limited till 2016 by the American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9/9, an American committee proposed an extension t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95280" y="414972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ther GeV gamma-ray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peri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method:    Fermi (satellite,2008~), CALET (ISS kibo#2, 2013~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method and New method: AMS (ISS, 2010~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71280" y="135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um of charged particle on track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resolution is given by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/P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(m) P(GeV/c) √(720/N+4)/0.3 B(T) L(m)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N: number of hits, B: magnetic field, L: transverse length, </a:t>
            </a:r>
            <a:r>
              <a:rPr b="0" lang="el-GR" sz="18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σ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pre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on of po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High energy resolution fa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66ff66"/>
                </a:solidFill>
                <a:latin typeface="Arial"/>
                <a:ea typeface="Arial"/>
              </a:rPr>
              <a:t>large B, L,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and </a:t>
            </a:r>
            <a:r>
              <a:rPr b="0" lang="el-GR" sz="1800" spc="-1" strike="noStrike">
                <a:solidFill>
                  <a:srgbClr val="66ff66"/>
                </a:solidFill>
                <a:latin typeface="Arial"/>
                <a:ea typeface="Arial"/>
              </a:rPr>
              <a:t>N and small </a:t>
            </a:r>
            <a:r>
              <a:rPr b="0" lang="el-GR" sz="1800" spc="-1" strike="noStrike">
                <a:solidFill>
                  <a:srgbClr val="66ff66"/>
                </a:solidFill>
                <a:latin typeface="ＭＳ Ｐゴシック"/>
                <a:ea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value of maximum energy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/P=100%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s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large B, L, and N and small </a:t>
            </a:r>
            <a:r>
              <a:rPr b="0" lang="el-GR" sz="1800" spc="-1" strike="noStrike">
                <a:solidFill>
                  <a:srgbClr val="66ff66"/>
                </a:solidFill>
                <a:latin typeface="ＭＳ Ｐゴシック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50920" y="3284640"/>
            <a:ext cx="8353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is a circle given by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 – a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 y – b 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 z – c 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arameters: 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more than 5 hits to obtain at least one degree of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other hand, large number of hits costs money and power;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N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66"/>
                </a:solidFill>
                <a:latin typeface="Arial"/>
              </a:rPr>
              <a:t>σ= 5 μm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electron scatt. limit ) with 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pitch Si s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determine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by analog read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Magnet thickness is proportional to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√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energy lo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charged parti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reases with the magnet thickness.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66ff66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66ff66"/>
                </a:solidFill>
                <a:latin typeface="Arial"/>
                <a:ea typeface="Arial"/>
              </a:rPr>
              <a:t>=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66ff66"/>
                </a:solidFill>
                <a:latin typeface="Arial"/>
                <a:ea typeface="Arial"/>
              </a:rPr>
              <a:t>2 T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( BESS 0.8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66"/>
                </a:solidFill>
                <a:latin typeface="Arial"/>
                <a:ea typeface="Arial"/>
              </a:rPr>
              <a:t>L = 0.8 m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( BESS layou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79280" y="260280"/>
            <a:ext cx="87854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ity of Magnetic field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SS Magnet: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Kalman filter for track fitting while applying a magnetic field at a singl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ffect of multiple electron scattering by nucleus in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ANT4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: Magnet (Nb,Ti,Cu,Al, thickness: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84 mm) and six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aye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thickn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each lay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m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lection by scattering  /  deflection by applying magnetic fiel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deflection @0T / deflection@2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8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m /  175 μm @ 1 TeV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構造-mono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0" y="587700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 m x 0.8 m x 1.4 m / one detector, Field of view: 2s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: solenoid, Nb-Ti-Cu-Al, thickness: 4.84 mm, Total Si area: 15.6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60000 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24000" y="1341360"/>
          <a:ext cx="8229600" cy="4525920"/>
        </p:xfrm>
        <a:graphic>
          <a:graphicData uri="http://schemas.openxmlformats.org/drawingml/2006/table">
            <a:tbl>
              <a:tblPr/>
              <a:tblGrid>
                <a:gridCol w="2503440"/>
                <a:gridCol w="1966680"/>
                <a:gridCol w="1836720"/>
                <a:gridCol w="1922760"/>
              </a:tblGrid>
              <a:tr h="110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lastic scintil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umber of 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rection of t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amma 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</a:tr>
              <a:tr h="110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ackground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d cosmic 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55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eut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amma ray from 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ot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62"/>
          <p:cNvSpPr/>
          <p:nvPr/>
        </p:nvSpPr>
        <p:spPr>
          <a:xfrm>
            <a:off x="539640" y="1890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identification on the basis of thre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1379520" y="333360"/>
            <a:ext cx="6000480" cy="3096720"/>
            <a:chOff x="1379520" y="333360"/>
            <a:chExt cx="6000480" cy="3096720"/>
          </a:xfrm>
        </p:grpSpPr>
        <p:sp>
          <p:nvSpPr>
            <p:cNvPr id="61" name="Freeform 12"/>
            <p:cNvSpPr/>
            <p:nvPr/>
          </p:nvSpPr>
          <p:spPr>
            <a:xfrm>
              <a:off x="1379520" y="444240"/>
              <a:ext cx="3912840" cy="21481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 flipH="1" flipV="1">
              <a:off x="1398240" y="2951280"/>
              <a:ext cx="309600" cy="102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"/>
            <p:cNvSpPr/>
            <p:nvPr/>
          </p:nvSpPr>
          <p:spPr>
            <a:xfrm flipV="1">
              <a:off x="2413440" y="898200"/>
              <a:ext cx="2369880" cy="11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"/>
            <p:cNvSpPr/>
            <p:nvPr/>
          </p:nvSpPr>
          <p:spPr>
            <a:xfrm flipV="1">
              <a:off x="3993480" y="1000800"/>
              <a:ext cx="1919520" cy="10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4"/>
            <p:cNvSpPr/>
            <p:nvPr/>
          </p:nvSpPr>
          <p:spPr>
            <a:xfrm>
              <a:off x="2130840" y="1975680"/>
              <a:ext cx="1467720" cy="1181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5"/>
            <p:cNvSpPr/>
            <p:nvPr/>
          </p:nvSpPr>
          <p:spPr>
            <a:xfrm>
              <a:off x="3712320" y="1975680"/>
              <a:ext cx="1466640" cy="1180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"/>
            <p:cNvSpPr/>
            <p:nvPr/>
          </p:nvSpPr>
          <p:spPr>
            <a:xfrm flipV="1">
              <a:off x="5065920" y="1873800"/>
              <a:ext cx="1637280" cy="11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6024960" y="1001160"/>
              <a:ext cx="678240" cy="769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4840560" y="898200"/>
              <a:ext cx="563400" cy="358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 flipV="1">
              <a:off x="3542040" y="2797560"/>
              <a:ext cx="17028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 flipV="1">
              <a:off x="5292360" y="1668240"/>
              <a:ext cx="620640" cy="410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 flipH="1">
              <a:off x="3823920" y="1514160"/>
              <a:ext cx="677880" cy="359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 flipH="1">
              <a:off x="5178960" y="847080"/>
              <a:ext cx="16884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"/>
            <p:cNvSpPr/>
            <p:nvPr/>
          </p:nvSpPr>
          <p:spPr>
            <a:xfrm>
              <a:off x="6589800" y="1206000"/>
              <a:ext cx="695160" cy="123264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5"/>
            <p:cNvSpPr/>
            <p:nvPr/>
          </p:nvSpPr>
          <p:spPr>
            <a:xfrm flipH="1">
              <a:off x="5969160" y="2439000"/>
              <a:ext cx="620640" cy="461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4323240" y="2643840"/>
              <a:ext cx="1589760" cy="7786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2865240" y="2540520"/>
              <a:ext cx="1128240" cy="88956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8"/>
            <p:cNvSpPr/>
            <p:nvPr/>
          </p:nvSpPr>
          <p:spPr>
            <a:xfrm flipV="1">
              <a:off x="3993480" y="2694240"/>
              <a:ext cx="395640" cy="256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9"/>
            <p:cNvSpPr/>
            <p:nvPr/>
          </p:nvSpPr>
          <p:spPr>
            <a:xfrm flipV="1">
              <a:off x="6645960" y="641160"/>
              <a:ext cx="734040" cy="461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1736640" y="2592720"/>
              <a:ext cx="959040" cy="48780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2"/>
            <p:cNvSpPr/>
            <p:nvPr/>
          </p:nvSpPr>
          <p:spPr>
            <a:xfrm>
              <a:off x="3937680" y="1411200"/>
              <a:ext cx="28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3"/>
            <p:cNvSpPr/>
            <p:nvPr/>
          </p:nvSpPr>
          <p:spPr>
            <a:xfrm>
              <a:off x="5235120" y="1618200"/>
              <a:ext cx="28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6534000" y="333360"/>
              <a:ext cx="253800" cy="7189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30"/>
          <p:cNvSpPr/>
          <p:nvPr/>
        </p:nvSpPr>
        <p:spPr>
          <a:xfrm>
            <a:off x="17928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a magnetic field in a magnet, but eliminate the magnetic field outside by placing two magnets with oppositely directed magnetic fields (proposed by yamamoto @KEK,B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0" y="4581360"/>
            <a:ext cx="914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independent detectors operated by using two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acent standard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CALET and EUSO use two large por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limit: 500 kg, max. power: 3 kW, size: 0.8 m x 1.0 m x 1.85 m per standard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: 250 kg, 1 kW x 20 h; Refrigerator: 1 kW, ? k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er: 348 W; additional counter: 81 W, 200 kg                / one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figure2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920" y="189000"/>
            <a:ext cx="741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 of summed energies of electrons and positrons generated in Magnet + Cryostat (0.14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y 100-GeV 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932360" y="2924280"/>
            <a:ext cx="421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% of gamma rays result in pair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 of pairs experience energy loss less than 100 MeV (0.1 %) by bremsstrah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5280" y="5877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79280" y="4797360"/>
            <a:ext cx="914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energies have been measured using a calorimeter because of energy loss by bremsstrahl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New approach for bremsstrahl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detect bremsstrahlung of more than 100 MeV using a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additional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and select an electron-positron pair for which energy loss is less than 100 M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7:44:23Z</dcterms:created>
  <dc:creator>大曽根聡子</dc:creator>
  <dc:description/>
  <dc:language>en-US</dc:language>
  <cp:lastModifiedBy>井岡 邦仁</cp:lastModifiedBy>
  <dcterms:modified xsi:type="dcterms:W3CDTF">2009-11-13T04:57:17Z</dcterms:modified>
  <cp:revision>128</cp:revision>
  <dc:subject/>
  <dc:title>High energy resolution GeV gamma ray detector</dc:title>
</cp:coreProperties>
</file>