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30C4-5D38-46B5-8A24-6CB33131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BE0F-83C1-4B5A-A355-93DCEBBD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8F2A-B7FA-4097-8438-945E5425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839E-9EC3-4C40-B34F-339EC972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25BA-49AC-4C7A-908C-986CCF17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7C0A-22CB-4DF8-8FEA-8FB968FD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F284-EA24-419C-A2CD-4CF57087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79ED-021C-4822-B2B7-5E17FBE5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BB67-F483-4BA4-A401-E6F31AA8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4E9B-2D1C-437B-89B4-712942A2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E5B3-2F86-4AE1-9B94-9E618997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7245-712C-4B8E-AAD7-35F4DA9A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78F0-EA26-4F98-A7FB-0818E135E2C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400" spc="-1" strike="noStrike">
                <a:solidFill>
                  <a:srgbClr val="23005f"/>
                </a:solidFill>
                <a:latin typeface="Symbol"/>
                <a:ea typeface="Symbol"/>
              </a:rPr>
              <a:t></a:t>
            </a:r>
            <a:r>
              <a:rPr b="0" i="1" lang="en-US" sz="4400" spc="-1" strike="noStrike">
                <a:solidFill>
                  <a:srgbClr val="23005f"/>
                </a:solidFill>
                <a:latin typeface="Arial"/>
              </a:rPr>
              <a:t>(2S) cross section and</a:t>
            </a:r>
            <a:br>
              <a:rPr sz="4400"/>
            </a:br>
            <a:r>
              <a:rPr b="0" i="1" lang="en-US" sz="4400" spc="-1" strike="noStrike">
                <a:solidFill>
                  <a:srgbClr val="23005f"/>
                </a:solidFill>
                <a:latin typeface="Arial"/>
              </a:rPr>
              <a:t> search for narrow resonances below the Upsilon mesons</a:t>
            </a:r>
            <a:br>
              <a:rPr sz="4400"/>
            </a:br>
            <a:r>
              <a:rPr b="0" i="1" lang="en-US" sz="4400" spc="-1" strike="noStrike">
                <a:solidFill>
                  <a:srgbClr val="23005f"/>
                </a:solidFill>
                <a:latin typeface="Arial"/>
              </a:rPr>
              <a:t> at CDF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berto Annovi - INFN Frasc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CDF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1617840" cy="1617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30960" y="5256720"/>
            <a:ext cx="73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70000"/>
                </a:solidFill>
                <a:latin typeface="Arial"/>
              </a:rPr>
              <a:t>International Workshop on Heavy Quarkonia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9600" y="5881680"/>
            <a:ext cx="38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ra Women's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5 December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Polarization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ance depends upon pol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ance and its systematics are determined assu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pt 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01 ± 0.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=2% @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=20% @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2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B dec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.35 ± 0.25 ± 0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=1.5% @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=19% @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2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sive measurement u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ed average accep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657600" y="1809720"/>
                <a:ext cx="1828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α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7" name="" descr=""/>
          <p:cNvPicPr/>
          <p:nvPr/>
        </p:nvPicPr>
        <p:blipFill>
          <a:blip r:embed="rId1"/>
          <a:srcRect l="0" t="51559" r="0" b="0"/>
          <a:stretch/>
        </p:blipFill>
        <p:spPr>
          <a:xfrm>
            <a:off x="5622840" y="2908440"/>
            <a:ext cx="3216240" cy="2546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564520" y="5607000"/>
            <a:ext cx="304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ys. Rev. Lett. 99, 132001 (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4572000"/>
            <a:ext cx="1219320" cy="1143000"/>
          </a:xfrm>
          <a:prstGeom prst="line">
            <a:avLst/>
          </a:prstGeom>
          <a:ln w="28440">
            <a:solidFill>
              <a:srgbClr val="c7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o Annov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FD24-6FE2-4543-BFD9-5A5A8BE4E25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 4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Systematics uncertanitie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8686800" cy="270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o Annov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E377-D7C2-4A9D-9D9D-D0B98BCB9E1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 4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Differential cross-section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28600" y="1827720"/>
            <a:ext cx="4343400" cy="4192200"/>
            <a:chOff x="228600" y="1827720"/>
            <a:chExt cx="4343400" cy="419220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34340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644480" y="1827720"/>
              <a:ext cx="278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DF preliminary 1.1fb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770360" y="2409840"/>
                <a:ext cx="40212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→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ys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n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4960080" y="5232240"/>
            <a:ext cx="34333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&lt;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S)) &gt; 30 Ge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y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S)) | &lt; 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02040" y="198000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0000"/>
                </a:solidFill>
                <a:latin typeface="Arial"/>
              </a:rPr>
              <a:t>Inclusive total cross-s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770360" y="4114800"/>
                <a:ext cx="40212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→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ys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n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4648320" y="3656520"/>
            <a:ext cx="40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0000"/>
                </a:solidFill>
                <a:latin typeface="Arial"/>
              </a:rPr>
              <a:t>Prompt component tot. xse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9558200">
            <a:off x="7471800" y="578988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elim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o Annov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3FA9-18D7-4228-88CB-E3D0DAD8DAB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 4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omparison with Run I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53" name=""/>
          <p:cNvSpPr/>
          <p:nvPr/>
        </p:nvSpPr>
        <p:spPr>
          <a:xfrm>
            <a:off x="5561280" y="3886200"/>
            <a:ext cx="3038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0000"/>
                </a:solidFill>
                <a:latin typeface="Arial"/>
              </a:rPr>
              <a:t>Run II (1.96TeV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ed on bin &lt;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0000"/>
                </a:solidFill>
                <a:latin typeface="Arial"/>
              </a:rPr>
              <a:t>Run I (1.8TeV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bin cen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33640" y="2513520"/>
            <a:ext cx="265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decay points sca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 by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465200"/>
            <a:ext cx="5029200" cy="4851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539800" y="1507320"/>
            <a:ext cx="27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F preliminary 1.1f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o Annov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4267-BCBA-4EBD-9BC2-8F0700E830F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 4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228600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Ratio of cross-sec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0" y="2389320"/>
            <a:ext cx="4572000" cy="3097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702160" y="5562720"/>
            <a:ext cx="37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D to be submitted 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1523880"/>
            <a:ext cx="29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S) to J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9080" y="152388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2403360"/>
            <a:ext cx="4572000" cy="3097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377720" y="2284920"/>
            <a:ext cx="27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F preliminary 1.1f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68800" y="2284920"/>
            <a:ext cx="27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F preliminary 1.1f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1320" y="5942520"/>
            <a:ext cx="833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-cdf.fnal.gov/physics/new/bottom/071018.blessed-psi2S-xsec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02560" y="35805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prom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2920" y="2787120"/>
            <a:ext cx="6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o Annov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416C-6113-4D54-8490-122745021FE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 4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omparisons with NNLO*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70" name=""/>
          <p:cNvSpPr/>
          <p:nvPr/>
        </p:nvSpPr>
        <p:spPr>
          <a:xfrm>
            <a:off x="146160" y="5333040"/>
            <a:ext cx="741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ory curve courtesy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 Artoise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t al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ing to Phys.Rev.Lett.101:152001,2008. [arXiv:0806.328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lso proceedings for HP2008 submitted to EPJC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2232360"/>
            <a:ext cx="457200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 better described at low-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0000"/>
                </a:solidFill>
                <a:latin typeface="Arial"/>
              </a:rPr>
              <a:t>High-p</a:t>
            </a:r>
            <a:r>
              <a:rPr b="0" lang="en-US" sz="2400" spc="-1" strike="noStrike" baseline="-25000">
                <a:solidFill>
                  <a:srgbClr val="c7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c70000"/>
                </a:solidFill>
                <a:latin typeface="Arial"/>
              </a:rPr>
              <a:t>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&gt;17 GeV) from this measurement </a:t>
            </a:r>
            <a:r>
              <a:rPr b="0" lang="en-US" sz="2400" spc="-1" strike="noStrike">
                <a:solidFill>
                  <a:srgbClr val="c70000"/>
                </a:solidFill>
                <a:latin typeface="Arial"/>
              </a:rPr>
              <a:t>not compatible with the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y progress here is welco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3792600" cy="3676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819520" y="2362320"/>
            <a:ext cx="121896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44640" y="236124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NLO* C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o Annov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C811-EB39-49BE-B683-2FC0366E797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 4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3005f"/>
                </a:solidFill>
                <a:latin typeface="Arial"/>
              </a:rPr>
              <a:t>search for narrow resonances below the Upsilon mes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o Annov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3BB3-26F4-46BA-9589-C3651F53B65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 4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Why looking for light </a:t>
            </a:r>
            <a:br>
              <a:rPr sz="4400"/>
            </a:b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dimuon resonances?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87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mass sbottom not completely ex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G. Aschman et al., Phys.Rev.Lett.39:124 (197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M. Boyarski et al., Phys. Rev. Lett. 34, 762 (19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O,  Phys. Rev. D 63, 051101 (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PHI,  Phys. Lett. B 444, 491 (19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models include low mass s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. Carena et al., Phys.Rev.Lett.86:4463 (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L. Berger et al., Phys.Rev.Lett.86:4231 (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o Annov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FBCC-648D-4D7F-B8AE-0B86CAB1CAD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 4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Dimuon spectrum in Run I data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572000" cy="44751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923720" y="4844880"/>
            <a:ext cx="398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 Apollinari et 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CDF Run I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.Rev.D72:092003,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48640" y="342792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o Annov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B111-6DAA-4C31-B2DD-67BA7DA487A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 4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Analysis method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for prompt dimuon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resonances </a:t>
            </a:r>
            <a:r>
              <a:rPr b="0" lang="en-US" sz="1800" spc="-1" strike="noStrike">
                <a:solidFill>
                  <a:srgbClr val="23005f"/>
                </a:solidFill>
                <a:latin typeface="Arial"/>
              </a:rPr>
              <a:t>(epsilo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detector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 results as</a:t>
            </a:r>
            <a:r>
              <a:rPr b="0" lang="en-US" sz="2000" spc="-1" strike="noStrike">
                <a:solidFill>
                  <a:srgbClr val="23005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005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23005f"/>
                </a:solidFill>
                <a:latin typeface="Arial"/>
              </a:rPr>
              <a:t>*BR relative to Y(1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ptonic width of hypotetical sbottomo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005f"/>
                </a:solidFill>
                <a:latin typeface="Arial"/>
              </a:rPr>
              <a:t>Assumptions for </a:t>
            </a:r>
            <a:r>
              <a:rPr b="0" lang="en-US" sz="2000" spc="-1" strike="noStrike">
                <a:solidFill>
                  <a:srgbClr val="23005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23005f"/>
                </a:solidFill>
                <a:latin typeface="Arial"/>
              </a:rPr>
              <a:t>*BR relative to Y(1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be unpolar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scale with mass w.r.t.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.e. 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/ 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Y(1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= 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ps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 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Y(1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be prom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produced inside a jet, i.e. iso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o Annov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94D7-CFEE-4FB4-A429-BD6F6143CA8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 4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 CDF detector @ Fermilab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17880" y="1901880"/>
            <a:ext cx="5024520" cy="3717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67280" y="6156360"/>
            <a:ext cx="21495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licon Microstrip Trac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53360" y="3835440"/>
            <a:ext cx="176040" cy="241308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88280" y="5410080"/>
            <a:ext cx="175572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ft Cha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3733920"/>
            <a:ext cx="1143000" cy="213336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39240" y="1852560"/>
            <a:ext cx="2567520" cy="398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Muon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&lt;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322960" y="2019240"/>
            <a:ext cx="2046240" cy="922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4983120" y="2136600"/>
            <a:ext cx="1146240" cy="1019520"/>
          </a:xfrm>
          <a:prstGeom prst="line">
            <a:avLst/>
          </a:prstGeom>
          <a:ln w="25560">
            <a:solidFill>
              <a:srgbClr val="00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982760" y="2136240"/>
            <a:ext cx="873000" cy="381240"/>
          </a:xfrm>
          <a:prstGeom prst="line">
            <a:avLst/>
          </a:prstGeom>
          <a:ln w="25560">
            <a:solidFill>
              <a:srgbClr val="00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56800" y="2784600"/>
            <a:ext cx="1171440" cy="398880"/>
          </a:xfrm>
          <a:prstGeom prst="rect">
            <a:avLst/>
          </a:prstGeom>
          <a:solidFill>
            <a:srgbClr val="ff66c0"/>
          </a:solidFill>
          <a:ln w="9360">
            <a:solidFill>
              <a:srgbClr val="ff6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en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4397040" y="2840040"/>
            <a:ext cx="1490760" cy="760320"/>
          </a:xfrm>
          <a:prstGeom prst="line">
            <a:avLst/>
          </a:prstGeom>
          <a:ln w="25560">
            <a:solidFill>
              <a:srgbClr val="ff66c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7359480" y="2019240"/>
            <a:ext cx="168480" cy="703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80560" y="1676520"/>
            <a:ext cx="2864520" cy="398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on Extension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&lt;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64320" y="5180040"/>
            <a:ext cx="1755000" cy="825480"/>
          </a:xfrm>
          <a:prstGeom prst="rect">
            <a:avLst/>
          </a:prstGeom>
          <a:solidFill>
            <a:srgbClr val="154afe"/>
          </a:solidFill>
          <a:ln w="28440">
            <a:solidFill>
              <a:srgbClr val="154a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o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24280" y="3886200"/>
            <a:ext cx="914400" cy="1295280"/>
          </a:xfrm>
          <a:prstGeom prst="line">
            <a:avLst/>
          </a:prstGeom>
          <a:ln w="28440">
            <a:solidFill>
              <a:srgbClr val="154af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724280" y="4647960"/>
            <a:ext cx="990720" cy="533160"/>
          </a:xfrm>
          <a:prstGeom prst="line">
            <a:avLst/>
          </a:prstGeom>
          <a:ln w="28440">
            <a:solidFill>
              <a:srgbClr val="154af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3708360" cy="1816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18800" y="479952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97110"/>
                </a:solidFill>
                <a:latin typeface="Symbol"/>
                <a:ea typeface="Symbol"/>
              </a:rPr>
              <a:t></a:t>
            </a:r>
            <a:r>
              <a:rPr b="0" lang="ja-JP" sz="2400" spc="-1" strike="noStrike" baseline="30000">
                <a:solidFill>
                  <a:srgbClr val="39711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9640" y="6247440"/>
            <a:ext cx="4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97110"/>
                </a:solidFill>
                <a:latin typeface="Symbol"/>
                <a:ea typeface="Symbol"/>
              </a:rPr>
              <a:t></a:t>
            </a:r>
            <a:r>
              <a:rPr b="0" lang="ja-JP" sz="2400" spc="-1" strike="noStrike" baseline="30000">
                <a:solidFill>
                  <a:srgbClr val="397110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4840" y="2491200"/>
            <a:ext cx="226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Ｔｅｖａｔｒｏ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pbar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96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Ｔｅ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61760" y="3427920"/>
            <a:ext cx="5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9711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397110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o Annov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3395-5035-42D0-9B1B-A58DBC055D4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 4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Data sampl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30p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dimuon tri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2006 - January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gger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ral muon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3 GeV, 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&lt; 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on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2 GeV, 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&lt; 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o Annov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11CF-862E-4BAA-AE3B-671E88EA545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 4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Data selection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reconstruct all dimuon candi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ing trigger confi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ntains a large contamination of dimuons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54ff"/>
                </a:solidFill>
                <a:latin typeface="Arial"/>
              </a:rPr>
              <a:t>bbbar and cc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isolation &lt; 4 GeV for both mu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 is sum of </a:t>
            </a:r>
            <a:r>
              <a:rPr b="0" lang="en-US" sz="2000" spc="-1" strike="noStrike">
                <a:solidFill>
                  <a:srgbClr val="5554ff"/>
                </a:solidFill>
                <a:latin typeface="Arial"/>
              </a:rPr>
              <a:t>all tracks p</a:t>
            </a:r>
            <a:r>
              <a:rPr b="0" lang="en-US" sz="2000" spc="-1" strike="noStrike" baseline="-25000">
                <a:solidFill>
                  <a:srgbClr val="5554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e                               around each mu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ptness cuts on </a:t>
            </a:r>
            <a:r>
              <a:rPr b="0" lang="en-US" sz="2400" spc="-1" strike="noStrike">
                <a:solidFill>
                  <a:srgbClr val="5554ff"/>
                </a:solidFill>
                <a:latin typeface="Arial"/>
              </a:rPr>
              <a:t>3D ve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54ff"/>
                </a:solidFill>
                <a:latin typeface="Arial"/>
              </a:rPr>
              <a:t>Vertex probability &gt; 0.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54ff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5554ff"/>
                </a:solidFill>
                <a:latin typeface="Arial"/>
              </a:rPr>
              <a:t>xy</a:t>
            </a:r>
            <a:r>
              <a:rPr b="0" lang="en-US" sz="2000" spc="-1" strike="noStrike">
                <a:solidFill>
                  <a:srgbClr val="5554ff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5554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5554ff"/>
                </a:solidFill>
                <a:latin typeface="Arial"/>
              </a:rPr>
              <a:t>xy </a:t>
            </a:r>
            <a:r>
              <a:rPr b="0" lang="en-US" sz="2000" spc="-1" strike="noStrike">
                <a:solidFill>
                  <a:srgbClr val="5554ff"/>
                </a:solidFill>
                <a:latin typeface="Arial"/>
              </a:rPr>
              <a:t>&lt; 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.r.t primary vert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942240" y="3409920"/>
            <a:ext cx="2125440" cy="3371760"/>
            <a:chOff x="6942240" y="3409920"/>
            <a:chExt cx="2125440" cy="3371760"/>
          </a:xfrm>
        </p:grpSpPr>
        <p:sp>
          <p:nvSpPr>
            <p:cNvPr id="189" name=""/>
            <p:cNvSpPr/>
            <p:nvPr/>
          </p:nvSpPr>
          <p:spPr>
            <a:xfrm flipV="1">
              <a:off x="7391520" y="4952880"/>
              <a:ext cx="1676160" cy="182880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91520" y="4648320"/>
              <a:ext cx="1676160" cy="5331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8229600" y="4038480"/>
              <a:ext cx="0" cy="2743200"/>
            </a:xfrm>
            <a:prstGeom prst="line">
              <a:avLst/>
            </a:prstGeom>
            <a:ln w="28440">
              <a:solidFill>
                <a:srgbClr val="c7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8229600" y="4343400"/>
              <a:ext cx="457200" cy="2362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7543440" y="4571640"/>
              <a:ext cx="685800" cy="2133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8076960" y="4419720"/>
              <a:ext cx="152280" cy="228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308080" y="3732840"/>
              <a:ext cx="35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c70000"/>
                  </a:solidFill>
                  <a:latin typeface="Symbol"/>
                  <a:ea typeface="Symbol"/>
                </a:rPr>
                <a:t>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42240" y="3409920"/>
              <a:ext cx="124128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Iso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track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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&lt;4G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28760" y="4483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362320" y="4495680"/>
                <a:ext cx="20574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j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o Annov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D70C-BA14-4A60-82D5-643B488E872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 4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Dimuon mass spectrum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030400" y="1546200"/>
            <a:ext cx="5083200" cy="508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o Annov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59C2-B9B4-49B7-A8EE-5B9BA1D7436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 4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Upsi region fi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4419720" cy="42624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572000" y="1767960"/>
            <a:ext cx="4572000" cy="42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4ff"/>
                </a:solidFill>
                <a:latin typeface="Arial"/>
                <a:ea typeface="ＭＳ Ｐゴシック"/>
              </a:rPr>
              <a:t>Bkg: 5</a:t>
            </a:r>
            <a:r>
              <a:rPr b="0" lang="en-US" sz="2400" spc="-1" strike="noStrike" baseline="30000">
                <a:solidFill>
                  <a:srgbClr val="5554ff"/>
                </a:solidFill>
                <a:latin typeface="Arial"/>
                <a:ea typeface="ＭＳ Ｐゴシック"/>
              </a:rPr>
              <a:t>th</a:t>
            </a:r>
            <a:r>
              <a:rPr b="0" lang="en-US" sz="2400" spc="-1" strike="noStrike">
                <a:solidFill>
                  <a:srgbClr val="5554ff"/>
                </a:solidFill>
                <a:latin typeface="Arial"/>
                <a:ea typeface="ＭＳ Ｐゴシック"/>
              </a:rPr>
              <a:t> degree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4ff"/>
                </a:solidFill>
                <a:latin typeface="Arial"/>
                <a:ea typeface="ＭＳ Ｐゴシック"/>
              </a:rPr>
              <a:t>Sig: Double Gauss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2780 ± 350 Y(1S)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kg of 13976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3 &lt; M &lt; 9.55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Y(1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9459 ± 1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52 ± 1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o Annov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4683-1B00-4E0B-B404-A9B8DB47904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 4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6751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Resonance search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5" name=""/>
          <p:cNvSpPr/>
          <p:nvPr/>
        </p:nvSpPr>
        <p:spPr>
          <a:xfrm>
            <a:off x="6555600" y="1905120"/>
            <a:ext cx="227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DF 66/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0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5083200" cy="4903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324480" y="34272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on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gree polynomial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o Annov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4496-EE23-470C-89B2-D3AE86E5866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 4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751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Resonance search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562720" y="220968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Gaussian to th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fit in the region 6 to 9.1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108 fits in steps of 25MeV starting at 6.3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k width is fixed to expectations from simu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 to 48 M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083200" cy="49035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367360" y="205668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be Gaussian in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438280" y="2362320"/>
            <a:ext cx="1371600" cy="7617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o Annov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98B8-04FB-4205-839C-995827173C7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 4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Upper limit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 Bayesian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4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554ff"/>
                </a:solidFill>
                <a:latin typeface="Arial"/>
              </a:rPr>
              <a:t>assuming prior probability flat above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4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554ff"/>
                </a:solidFill>
                <a:latin typeface="Arial"/>
              </a:rPr>
              <a:t>acceptance correc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4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554ff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5554ff"/>
                </a:solidFill>
                <a:latin typeface="Arial"/>
              </a:rPr>
              <a:t>rel</a:t>
            </a:r>
            <a:r>
              <a:rPr b="0" lang="en-US" sz="2400" spc="-1" strike="noStrike">
                <a:solidFill>
                  <a:srgbClr val="5554ff"/>
                </a:solidFill>
                <a:latin typeface="Arial"/>
              </a:rPr>
              <a:t>=65.5% of Y(1S) at 6.3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4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554ff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5554ff"/>
                </a:solidFill>
                <a:latin typeface="Arial"/>
              </a:rPr>
              <a:t>rel</a:t>
            </a:r>
            <a:r>
              <a:rPr b="0" lang="en-US" sz="2400" spc="-1" strike="noStrike">
                <a:solidFill>
                  <a:srgbClr val="5554ff"/>
                </a:solidFill>
                <a:latin typeface="Arial"/>
              </a:rPr>
              <a:t>=97.4% of Y(1S) at 9.0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34654" t="0" r="23022" b="87223"/>
          <a:stretch/>
        </p:blipFill>
        <p:spPr>
          <a:xfrm>
            <a:off x="838080" y="4876920"/>
            <a:ext cx="2136960" cy="758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124080" y="4664160"/>
                <a:ext cx="19814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bayes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  <m:r>
                      <m:t xml:space="preserve">·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5791320" y="46036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N is number of reconstructed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o Annov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4030-A1FE-4379-BCD1-A55F4109E70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 4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Upper limit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4419360" cy="3929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354120" y="240516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%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27640" y="1447920"/>
            <a:ext cx="56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d is expected limit.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lue is observed lim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05520" y="2061720"/>
            <a:ext cx="3581280" cy="40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atic is 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accep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Y pol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nance line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cess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D72:092003,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(36±9)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7.2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o Annov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6367-D80B-44ED-96B2-BD03D85D625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 4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Upper limit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760840" y="5334120"/>
            <a:ext cx="4249440" cy="4554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952880" y="121932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04920" y="1219320"/>
            <a:ext cx="4419360" cy="39290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744640" y="160020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%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7320" y="160020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%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26" idx="2"/>
            <a:endCxn id="224" idx="1"/>
          </p:cNvCxnSpPr>
          <p:nvPr/>
        </p:nvCxnSpPr>
        <p:spPr>
          <a:xfrm flipH="1" rot="16200000">
            <a:off x="2430360" y="5231880"/>
            <a:ext cx="415080" cy="246960"/>
          </a:xfrm>
          <a:prstGeom prst="curvedConnector2">
            <a:avLst/>
          </a:prstGeom>
          <a:ln w="28440">
            <a:solidFill>
              <a:srgbClr val="c7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4" idx="3"/>
            <a:endCxn id="225" idx="2"/>
          </p:cNvCxnSpPr>
          <p:nvPr/>
        </p:nvCxnSpPr>
        <p:spPr>
          <a:xfrm flipH="1" flipV="1">
            <a:off x="6895440" y="5105160"/>
            <a:ext cx="114840" cy="457920"/>
          </a:xfrm>
          <a:prstGeom prst="curvedConnector5">
            <a:avLst>
              <a:gd name="adj1" fmla="val -200000"/>
              <a:gd name="adj2" fmla="val 37450"/>
              <a:gd name="adj3" fmla="val -200000"/>
            </a:avLst>
          </a:prstGeom>
          <a:ln w="28440">
            <a:solidFill>
              <a:srgbClr val="c70000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5945760" y="379440"/>
            <a:ext cx="214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bottomo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ptonic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8160" y="5942880"/>
            <a:ext cx="83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-cdf.fnal.gov/physics/new/bottom/080703.blessed-Dimuon_resonanc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o Annov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5656-628C-40B3-A279-5B94D124B58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 4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onclus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2S) cross section in Run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vides </a:t>
            </a:r>
            <a:r>
              <a:rPr b="0" i="1" lang="en-US" sz="2400" spc="-1" strike="noStrike">
                <a:solidFill>
                  <a:srgbClr val="c70000"/>
                </a:solidFill>
                <a:latin typeface="Arial"/>
              </a:rPr>
              <a:t>data up to 30 GeV for the firs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ds input for </a:t>
            </a:r>
            <a:r>
              <a:rPr b="0" i="1" lang="en-US" sz="2400" spc="-1" strike="noStrike">
                <a:solidFill>
                  <a:srgbClr val="c70000"/>
                </a:solidFill>
                <a:latin typeface="Arial"/>
              </a:rPr>
              <a:t>quarkonia produc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arch for narrow resonances below the Upsilon me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 evidence for new signals --&gt; set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most exclude light sbottomonium (6.3 &lt; m &lt; 9 G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fully excluded within (not shown) theoretical uncertain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o Annov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977D-108A-45A4-A051-FA5957A5CA1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 4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400" spc="-1" strike="noStrike">
                <a:solidFill>
                  <a:srgbClr val="23005f"/>
                </a:solidFill>
                <a:latin typeface="Symbol"/>
                <a:ea typeface="Symbol"/>
              </a:rPr>
              <a:t></a:t>
            </a:r>
            <a:r>
              <a:rPr b="0" i="1" lang="en-US" sz="4400" spc="-1" strike="noStrike">
                <a:solidFill>
                  <a:srgbClr val="23005f"/>
                </a:solidFill>
                <a:latin typeface="Arial"/>
              </a:rPr>
              <a:t>(2S) cross section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o Annov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56E6-83AC-4FC5-A6CC-B7E117B2A6D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 4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BACKUP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o Annov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B13A-9C2A-42AA-99F2-A7A5664FB46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 4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omparison with Run I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38" name=""/>
          <p:cNvSpPr/>
          <p:nvPr/>
        </p:nvSpPr>
        <p:spPr>
          <a:xfrm>
            <a:off x="5339160" y="2362320"/>
            <a:ext cx="3695040" cy="34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0000"/>
                </a:solidFill>
                <a:latin typeface="Arial"/>
              </a:rPr>
              <a:t>Run II (1.96TeV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d to </a:t>
            </a:r>
            <a:r>
              <a:rPr b="0" lang="en-US" sz="2000" spc="-1" strike="noStrike">
                <a:solidFill>
                  <a:srgbClr val="c70000"/>
                </a:solidFill>
                <a:latin typeface="Arial"/>
              </a:rPr>
              <a:t>1.8 GeV (-14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ed on bin &lt;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0000"/>
                </a:solidFill>
                <a:latin typeface="Arial"/>
              </a:rPr>
              <a:t>Run I (1.8TeV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bin cen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RQCD uses a fit to Run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describ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Braaten et. Al., hep-ph/00080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.Rev.D63:094006,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28600" y="1380240"/>
            <a:ext cx="4952880" cy="4966560"/>
            <a:chOff x="228600" y="1380240"/>
            <a:chExt cx="4952880" cy="4966560"/>
          </a:xfrm>
        </p:grpSpPr>
        <p:sp>
          <p:nvSpPr>
            <p:cNvPr id="240" name=""/>
            <p:cNvSpPr/>
            <p:nvPr/>
          </p:nvSpPr>
          <p:spPr>
            <a:xfrm>
              <a:off x="228600" y="1447920"/>
              <a:ext cx="49528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228600" y="1676520"/>
              <a:ext cx="4952880" cy="46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2310840" y="1380240"/>
              <a:ext cx="278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DF preliminary 1.1fb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o Annov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08F3-6D6A-46FF-A6BC-8DAF8BEFE66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 4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Why </a:t>
            </a:r>
            <a:r>
              <a:rPr b="0" lang="en-US" sz="4400" spc="-1" strike="noStrike">
                <a:solidFill>
                  <a:srgbClr val="23005f"/>
                </a:solidFill>
                <a:latin typeface="Symbol"/>
                <a:ea typeface="Symbol"/>
              </a:rPr>
              <a:t></a:t>
            </a: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(2S) cross section?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monium production as test of QC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RQCD can account for J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S) cross-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RQCD *not* able to describe pol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S) is clean: small feed-down from higher charmonium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differential xsec up to 30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3216240" cy="4434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16200" y="6019920"/>
            <a:ext cx="304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ys. Rev. Lett. 99, 132001 (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o Annov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9743-81D9-43DE-9649-095105B24C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 4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Measurement principl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clean di-muon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70000"/>
                </a:solidFill>
                <a:latin typeface="Arial"/>
              </a:rPr>
              <a:t>Unbinned f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epar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 from backgr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p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S) from long lived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i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acceptance, efficiency and lumin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differential cross-s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19320" y="5197320"/>
            <a:ext cx="6478560" cy="111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o Annov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B357-312C-42DA-A13D-9279EC2954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 4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Data selection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1 f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low-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muon tri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gger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entral muons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1.5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-line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entral muons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2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r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licon (SVX II) hits / mu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s, muons and vertex quality c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0000"/>
                </a:solidFill>
                <a:latin typeface="Arial"/>
              </a:rPr>
              <a:t>Analysis kinematical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GeV &lt;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S)) &lt; 30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y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S)) | &lt; 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o Annov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D73F-23D1-4D7F-AA76-4D9204F700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 4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Fitting the data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binned maximum likelihood fi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nstructed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nstructed c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 likeli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: Gaussian + crystal ball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 (prompt): double Gaus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 (long lived): exponential conv. Gaus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 likeli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: 1st order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 : combination of prompt, long lived symmetric and long lived asym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092560" y="1981080"/>
                <a:ext cx="13939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6078600"/>
            <a:ext cx="6626160" cy="779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 flipV="1">
            <a:off x="6629400" y="2438280"/>
            <a:ext cx="914400" cy="763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79200" y="2132640"/>
            <a:ext cx="186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nstructe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o Annov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22A9-F65C-495F-9880-2E3DD2D6CC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 4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Fit projec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114800" cy="3948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48320" y="2224080"/>
            <a:ext cx="4114800" cy="3948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222720" y="1600200"/>
            <a:ext cx="269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5 &lt;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6.0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2120" y="2589840"/>
            <a:ext cx="166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23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360" y="2513520"/>
            <a:ext cx="168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13 prom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23 long li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30000" y="2193120"/>
            <a:ext cx="27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F preliminary 1.1f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73400" y="2193120"/>
            <a:ext cx="27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F preliminary 1.1f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o Annov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9813-E6E8-4C01-BD62-D71171A9676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 4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Acceptance and efficiency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ic acceptance from CDF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S) generated uniform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S) decayed with EVT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polarization are generat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gger efficiency measured o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line reconstruction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d on data in combination with 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inal luminosity 1.1f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luminosity is </a:t>
            </a:r>
            <a:r>
              <a:rPr b="0" lang="en-US" sz="2400" spc="-1" strike="noStrike">
                <a:solidFill>
                  <a:srgbClr val="c70000"/>
                </a:solidFill>
                <a:latin typeface="Arial"/>
              </a:rPr>
              <a:t>0.95fb</a:t>
            </a:r>
            <a:r>
              <a:rPr b="0" lang="en-US" sz="2400" spc="-1" strike="noStrike" baseline="30000">
                <a:solidFill>
                  <a:srgbClr val="c7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trigger dynamic prescale @ high lumino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o Annov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42CD-81A9-4A8B-B97C-102E0D17A8B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 4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0:16:46Z</dcterms:created>
  <dc:creator>Alberto Annovi</dc:creator>
  <dc:description/>
  <cp:keywords/>
  <dc:language>en-US</dc:language>
  <cp:lastModifiedBy>Hayashii-New</cp:lastModifiedBy>
  <cp:lastPrinted>2008-12-02T08:54:34Z</cp:lastPrinted>
  <dcterms:modified xsi:type="dcterms:W3CDTF">2008-12-04T01:52:59Z</dcterms:modified>
  <cp:revision>108</cp:revision>
  <dc:subject/>
  <dc:title>(2S) cross section  and  search for narrow resonances below the Upsilon mass at CDF</dc:title>
</cp:coreProperties>
</file>